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84.jpeg" ContentType="image/jpeg"/>
  <Override PartName="/ppt/media/image68.png" ContentType="image/png"/>
  <Override PartName="/ppt/media/image70.png" ContentType="image/png"/>
  <Override PartName="/ppt/media/image28.png" ContentType="image/png"/>
  <Override PartName="/ppt/media/image83.jpeg" ContentType="image/jpeg"/>
  <Override PartName="/ppt/media/image69.png" ContentType="image/png"/>
  <Override PartName="/ppt/media/image71.png" ContentType="image/png"/>
  <Override PartName="/ppt/media/image29.png" ContentType="image/png"/>
  <Override PartName="/ppt/media/image79.png" ContentType="image/png"/>
  <Override PartName="/ppt/media/image77.png" ContentType="image/png"/>
  <Override PartName="/ppt/media/image76.png" ContentType="image/png"/>
  <Override PartName="/ppt/media/image81.jpeg" ContentType="image/jpeg"/>
  <Override PartName="/ppt/media/image75.png" ContentType="image/png"/>
  <Override PartName="/ppt/media/image74.png" ContentType="image/png"/>
  <Override PartName="/ppt/media/image72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4.png" ContentType="image/png"/>
  <Override PartName="/ppt/media/image2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6A1-E992-4027-A929-33A32841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9DD-1E25-490C-A91D-66D476C5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B55-9175-483F-B058-383BDE99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D271-D274-4289-8DDF-54A5E143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EE8-17DD-43DB-9B4F-77EAFEE1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922-AB6D-41A8-9E7F-EC8FDB68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04CE-805A-45DB-B059-850CF57E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488-8320-4EB5-85CE-FD1E4DDD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A2D4-3BE0-4F6F-9CE6-FF3D2680C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32D4-5492-430C-9B38-E85E276D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4FB-5AD4-4B38-83BD-B04F57D70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DA2-3862-47F6-BAFF-710F48CC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18D-7441-4110-93A8-9578DBB0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044-60A9-4DBB-88FD-DC03608E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3F66-2303-4309-9912-A2910637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A0F1-7568-48AD-9998-FDEA4B1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AE74-05DE-43B0-A59E-C62399D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C34F-90E2-4E5C-B3B6-BDFA31AE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04620-A2F1-4A2F-9383-7967ABD9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1963B-A3E0-4D6E-9FFC-262FA55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D661-3B38-4659-BBBA-E35A77BC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DDE1-BF9A-40C6-8CC6-BD46DF76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39708-59E9-41B3-92F2-9A40A124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04035-2F3B-4A06-9D5C-2F33458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E252-77FB-4F10-ACCF-D37CCF18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234F-0F38-444B-840B-BD66E7B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5D99-7D73-4F7F-AED0-5036D13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99CC-EE7B-46DE-8DD8-4AC9F47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DC07A-3978-43D4-A449-CE6537D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DF9F-5F5E-41C6-A3F0-D1232719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A8F90-8276-4F7B-AF7A-5B0B7F1E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745F-6909-4FFB-A6F6-91FAAAF5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0600-FBBF-4746-9DD6-0F67CC5D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D7AB-D998-4D74-939C-F10B444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5918-2D17-4737-81E2-9060D9BB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C3EC-84E7-4B3E-BAF0-A743252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7EF5-2388-435E-8075-6B03440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44C1-D9B9-455D-BC60-8C35AEC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4552-B2A9-4474-9B51-4CEF74B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85B7-9B8D-49F5-992D-C216D91D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3FB6-C845-4215-A9E4-EF493B2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A490-DC0E-4BAC-9AB7-F0CF8B28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BD93-DF16-4CEE-9139-D364D091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618C-7357-4A1D-9D85-56A80407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6A65-DDBE-480C-92EB-A43C933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9C75-168C-4654-8CAA-18A7C61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1750-C36F-47D4-BC29-196CB923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EEB8-0D1B-457B-BECC-90E6351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F115-32F9-4E20-8AC5-34CBC7F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1823-9AE2-47E9-9957-52BDED4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F31D-6EF0-46A0-81CB-FDD4736EEFDC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6EE72EE7-5545-47B4-A3C8-BB7653EA122B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egory Leptoukh &amp; Frank Lindsay, AQ Data Summ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34920" y="6556320"/>
            <a:ext cx="19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7203960" y="6556320"/>
            <a:ext cx="19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5323-3C4D-4338-95BA-57772B69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0" y="0"/>
            <a:ext cx="851040" cy="849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6991200" y="249120"/>
            <a:ext cx="191952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Helvetica-Condensed-Light-Li"/>
              </a:rPr>
              <a:t>Giovann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Helvetica-Condensed-Light-Li"/>
              <a:ea typeface="Helvetica-Condensed-Light-L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106-1AFC-4A1C-9119-43AD0026038E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E7FE7732-14F3-4A98-AC53-3642B3D4D3A8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6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egory Leptoukh &amp; Frank Lindsay, AQ Data Summ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136080" y="6365880"/>
            <a:ext cx="21114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493040" y="6365520"/>
            <a:ext cx="138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197E-C82D-4E8A-B562-5CC3F49DB8E2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cdisc.sci.gsfc.nasa.gov/opendap/" TargetMode="External"/><Relationship Id="rId2" Type="http://schemas.openxmlformats.org/officeDocument/2006/relationships/hyperlink" Target="http://atrain.sci.gsfc.nasa.gov/opendap/" TargetMode="External"/><Relationship Id="rId3" Type="http://schemas.openxmlformats.org/officeDocument/2006/relationships/hyperlink" Target="http://g0hep12u.ecs.nasa.gov/mapserv-bin/wms_ogc?TARGET_SRS=EPSG:4326&amp;Service=WMS&amp;VERSION=1.1.1&amp;REQUEST=GetMap&amp;SRS=EPSG:4326&amp;WIDTH=768&amp;HEIGHT=512&amp;BBOX=-180,-90,180,90&amp;LAYERS=AIRX3STM_TOTO3_A,coastline" TargetMode="External"/><Relationship Id="rId4" Type="http://schemas.openxmlformats.org/officeDocument/2006/relationships/hyperlink" Target="http://agdisc.gsfc.nasa.gov/dods/" TargetMode="External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iovanniplus-ts1.sci.gsfc.nasa.gov/daac-bin/G3/giovanni-wcs.cgi?SERVICE=WCS&amp;WMTVER=1.0.0&amp;REQUEST=GetCapabilities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cdisc.sci.gsfc.nasa.gov/daac-bin/wcsNO2?service=wcs&amp;version=1.0.0&amp;request=describeCoverage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5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74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3197E5E9-4E0C-4A14-BC4C-0AAFA0BC3485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722160" y="2114640"/>
            <a:ext cx="750420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lvetica-Condensed-Light-Li"/>
              </a:rPr>
              <a:t>Giovann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lvetica-Condensed-Light-Li"/>
              <a:ea typeface="Helvetica-Condensed-Light-L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46280" y="365436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ddar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teractiv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lin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sual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 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ysi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frastructure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64840" y="511488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808200" y="961920"/>
            <a:ext cx="729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 U.S Air Quality with Remote Sensing Data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4625B4C3-91F9-4E44-BDDA-8DF05A9FFFC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rcRect l="4508" t="0" r="8334" b="9258"/>
          <a:stretch/>
        </p:blipFill>
        <p:spPr>
          <a:xfrm>
            <a:off x="4648320" y="2971800"/>
            <a:ext cx="4419360" cy="3451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2"/>
          <a:srcRect l="4508" t="0" r="8334" b="9258"/>
          <a:stretch/>
        </p:blipFill>
        <p:spPr>
          <a:xfrm>
            <a:off x="152280" y="1120680"/>
            <a:ext cx="4419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540A969E-FEBF-4E64-80CB-F5CEE5CFFEB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4840" y="-360"/>
            <a:ext cx="63342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s of N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no2 global map.gif"/>
          <p:cNvPicPr/>
          <p:nvPr/>
        </p:nvPicPr>
        <p:blipFill>
          <a:blip r:embed="rId1"/>
          <a:stretch/>
        </p:blipFill>
        <p:spPr>
          <a:xfrm>
            <a:off x="444600" y="738360"/>
            <a:ext cx="4095720" cy="271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no2 trop global map.gif"/>
          <p:cNvPicPr/>
          <p:nvPr/>
        </p:nvPicPr>
        <p:blipFill>
          <a:blip r:embed="rId2"/>
          <a:stretch/>
        </p:blipFill>
        <p:spPr>
          <a:xfrm>
            <a:off x="446040" y="3497400"/>
            <a:ext cx="4095720" cy="271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no2 trop US map.gif"/>
          <p:cNvPicPr/>
          <p:nvPr/>
        </p:nvPicPr>
        <p:blipFill>
          <a:blip r:embed="rId3"/>
          <a:stretch/>
        </p:blipFill>
        <p:spPr>
          <a:xfrm>
            <a:off x="4640400" y="3508200"/>
            <a:ext cx="4095720" cy="2716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o2 USl map.gif"/>
          <p:cNvPicPr/>
          <p:nvPr/>
        </p:nvPicPr>
        <p:blipFill>
          <a:blip r:embed="rId4"/>
          <a:stretch/>
        </p:blipFill>
        <p:spPr>
          <a:xfrm>
            <a:off x="4649760" y="744480"/>
            <a:ext cx="4095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1BDDC3BC-385A-4FCE-9A92-8F10E3CCAD9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s of 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airs co asc.gif"/>
          <p:cNvPicPr/>
          <p:nvPr/>
        </p:nvPicPr>
        <p:blipFill>
          <a:blip r:embed="rId1"/>
          <a:stretch/>
        </p:blipFill>
        <p:spPr>
          <a:xfrm>
            <a:off x="133200" y="1847880"/>
            <a:ext cx="4403880" cy="3146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airs co desc 802 hpa.gif"/>
          <p:cNvPicPr/>
          <p:nvPr/>
        </p:nvPicPr>
        <p:blipFill>
          <a:blip r:embed="rId2"/>
          <a:stretch/>
        </p:blipFill>
        <p:spPr>
          <a:xfrm>
            <a:off x="4616280" y="1849320"/>
            <a:ext cx="44038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1FAF6936-A650-4E92-AE7A-85CAA97CAF84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70120" y="325440"/>
            <a:ext cx="603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Profile Data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hirdls03-20070312"/>
          <p:cNvPicPr/>
          <p:nvPr/>
        </p:nvPicPr>
        <p:blipFill>
          <a:blip r:embed="rId1"/>
          <a:srcRect l="0" t="3628" r="4611" b="1141"/>
          <a:stretch/>
        </p:blipFill>
        <p:spPr>
          <a:xfrm>
            <a:off x="304920" y="137160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irdlst-20070312"/>
          <p:cNvPicPr/>
          <p:nvPr/>
        </p:nvPicPr>
        <p:blipFill>
          <a:blip r:embed="rId2"/>
          <a:srcRect l="0" t="3598" r="4287" b="2003"/>
          <a:stretch/>
        </p:blipFill>
        <p:spPr>
          <a:xfrm>
            <a:off x="304920" y="3886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ml2o3-20070312"/>
          <p:cNvPicPr/>
          <p:nvPr/>
        </p:nvPicPr>
        <p:blipFill>
          <a:blip r:embed="rId3"/>
          <a:srcRect l="858" t="3598" r="4287" b="2003"/>
          <a:stretch/>
        </p:blipFill>
        <p:spPr>
          <a:xfrm>
            <a:off x="3657600" y="1371600"/>
            <a:ext cx="3276720" cy="232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ml2t-20070312"/>
          <p:cNvPicPr/>
          <p:nvPr/>
        </p:nvPicPr>
        <p:blipFill>
          <a:blip r:embed="rId4"/>
          <a:srcRect l="858" t="3598" r="4287" b="2003"/>
          <a:stretch/>
        </p:blipFill>
        <p:spPr>
          <a:xfrm>
            <a:off x="3657600" y="3886200"/>
            <a:ext cx="3276720" cy="2382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636480" y="927000"/>
            <a:ext cx="242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R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202280" y="934920"/>
            <a:ext cx="1792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997680" y="1434960"/>
            <a:ext cx="2027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RDLS and M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zone (top)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erature (bottom) profiles ac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12, 2007, over France during the passage of a weather front. Note the tropopause fold (arrow) in the  ozon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LS vertical re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~3 km, HIRD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tical re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~1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 flipH="1">
            <a:off x="2349360" y="2827440"/>
            <a:ext cx="46368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 flipH="1">
            <a:off x="5779800" y="2795760"/>
            <a:ext cx="46332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DC62CA3-9FA8-45C4-9CC3-8F297314B745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rcRect l="0" t="16005" r="0" b="5602"/>
          <a:stretch/>
        </p:blipFill>
        <p:spPr>
          <a:xfrm>
            <a:off x="1523880" y="719280"/>
            <a:ext cx="5791320" cy="32432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ifornia fires by MO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rcRect l="0" t="16398" r="0" b="5201"/>
          <a:stretch/>
        </p:blipFill>
        <p:spPr>
          <a:xfrm>
            <a:off x="1523880" y="3505320"/>
            <a:ext cx="5791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CAC82733-1628-426F-905E-B69A05E9192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rcRect l="0" t="15899" r="1377" b="5058"/>
          <a:stretch/>
        </p:blipFill>
        <p:spPr>
          <a:xfrm>
            <a:off x="1238400" y="1805040"/>
            <a:ext cx="6575400" cy="3763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9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M2.5 from AirNow in Giovan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11"/>
          <p:cNvSpPr/>
          <p:nvPr/>
        </p:nvSpPr>
        <p:spPr>
          <a:xfrm>
            <a:off x="7493040" y="62895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15AC3E34-7A2E-46B1-B048-06ABC8488D6F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12"/>
          <p:cNvSpPr/>
          <p:nvPr/>
        </p:nvSpPr>
        <p:spPr>
          <a:xfrm>
            <a:off x="2184480" y="628956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82520" y="749160"/>
            <a:ext cx="8788320" cy="5403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431640" y="182520"/>
            <a:ext cx="6896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rebuchet MS"/>
              </a:rPr>
              <a:t>Visualizing California’s Wildfires from Spac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Calif Fires Mass"/>
          <p:cNvPicPr/>
          <p:nvPr/>
        </p:nvPicPr>
        <p:blipFill>
          <a:blip r:embed="rId1"/>
          <a:srcRect l="0" t="0" r="0" b="3840"/>
          <a:stretch/>
        </p:blipFill>
        <p:spPr>
          <a:xfrm>
            <a:off x="5602320" y="3881520"/>
            <a:ext cx="3208320" cy="2203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Calif Fires clouds"/>
          <p:cNvPicPr/>
          <p:nvPr/>
        </p:nvPicPr>
        <p:blipFill>
          <a:blip r:embed="rId2"/>
          <a:srcRect l="0" t="0" r="0" b="3840"/>
          <a:stretch/>
        </p:blipFill>
        <p:spPr>
          <a:xfrm>
            <a:off x="2819520" y="3881520"/>
            <a:ext cx="3198600" cy="2197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alif Fires sm aer"/>
          <p:cNvPicPr/>
          <p:nvPr/>
        </p:nvPicPr>
        <p:blipFill>
          <a:blip r:embed="rId3"/>
          <a:srcRect l="10971" t="0" r="0" b="3840"/>
          <a:stretch/>
        </p:blipFill>
        <p:spPr>
          <a:xfrm>
            <a:off x="401760" y="3881520"/>
            <a:ext cx="2857320" cy="220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Calif Fires CO"/>
          <p:cNvPicPr/>
          <p:nvPr/>
        </p:nvPicPr>
        <p:blipFill>
          <a:blip r:embed="rId4"/>
          <a:srcRect l="0" t="0" r="0" b="3840"/>
          <a:stretch/>
        </p:blipFill>
        <p:spPr>
          <a:xfrm>
            <a:off x="5618160" y="1698480"/>
            <a:ext cx="3206880" cy="2203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Calif Fires UV Index"/>
          <p:cNvPicPr/>
          <p:nvPr/>
        </p:nvPicPr>
        <p:blipFill>
          <a:blip r:embed="rId5"/>
          <a:srcRect l="0" t="0" r="0" b="3840"/>
          <a:stretch/>
        </p:blipFill>
        <p:spPr>
          <a:xfrm>
            <a:off x="2817720" y="1698480"/>
            <a:ext cx="3208320" cy="2203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Calif Fires NO2"/>
          <p:cNvPicPr/>
          <p:nvPr/>
        </p:nvPicPr>
        <p:blipFill>
          <a:blip r:embed="rId6"/>
          <a:srcRect l="10971" t="0" r="0" b="3840"/>
          <a:stretch/>
        </p:blipFill>
        <p:spPr>
          <a:xfrm>
            <a:off x="403200" y="1698480"/>
            <a:ext cx="2855880" cy="22053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5"/>
          <p:cNvSpPr/>
          <p:nvPr/>
        </p:nvSpPr>
        <p:spPr>
          <a:xfrm>
            <a:off x="861840" y="1855800"/>
            <a:ext cx="1779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ropospheric N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3605040" y="1911240"/>
            <a:ext cx="17780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V Aerosol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5964120" y="189720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otal Column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914400" y="4208400"/>
            <a:ext cx="1684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Aerosol Small Mode Fra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3624120" y="4195800"/>
            <a:ext cx="16862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Cloud Optical Thickn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408720" y="4181400"/>
            <a:ext cx="168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rebuchet MS"/>
              </a:rPr>
              <a:t>Aerosol Mass over 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841320" y="3529080"/>
            <a:ext cx="585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O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3624120" y="3529080"/>
            <a:ext cx="587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O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6481800" y="3529080"/>
            <a:ext cx="585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AI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76680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347832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6261120" y="5653080"/>
            <a:ext cx="733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D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104760" y="749160"/>
            <a:ext cx="8790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23-27 October 2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ata from NASA’s Aura OMI (Tropospheric NO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 and UV Aerosol Index), Aqua AIRS (Total Column CO) and                      Terra MODIS (Aerosol Small Fraction, Cloud Optical Thickness and Aerosol Mass Concentration Over Lan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4513D48A-9EDD-4B5D-833C-9E4A20DA5498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41360" y="682560"/>
            <a:ext cx="3933720" cy="5626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619520" y="682560"/>
            <a:ext cx="3934080" cy="5626080"/>
          </a:xfrm>
          <a:prstGeom prst="rect">
            <a:avLst/>
          </a:prstGeom>
          <a:ln w="0">
            <a:noFill/>
          </a:ln>
        </p:spPr>
      </p:pic>
      <p:sp>
        <p:nvSpPr>
          <p:cNvPr id="355" name="Line 4"/>
          <p:cNvSpPr/>
          <p:nvPr/>
        </p:nvSpPr>
        <p:spPr>
          <a:xfrm>
            <a:off x="3635280" y="3346560"/>
            <a:ext cx="144144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3708360" y="4210200"/>
            <a:ext cx="1368360" cy="7920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279240" y="63025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st event, May 2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7480" y="50400"/>
            <a:ext cx="74232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Fusio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95280" y="29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95280" y="4862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7242120" y="3403440"/>
            <a:ext cx="79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Terr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335ADE8C-30B4-4029-89E1-7B3FA5320918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1976EF2-5124-4CFE-9EDA-CDC3F623C09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AQ Schema for Portal - Revised.jpg"/>
          <p:cNvPicPr/>
          <p:nvPr/>
        </p:nvPicPr>
        <p:blipFill>
          <a:blip r:embed="rId1"/>
          <a:stretch/>
        </p:blipFill>
        <p:spPr>
          <a:xfrm>
            <a:off x="101520" y="27000"/>
            <a:ext cx="895356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CC7F454C-D3F4-4412-A6E9-FB08A5648D90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09480" y="1371600"/>
            <a:ext cx="784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iovan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ovanni for Ai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e gases in Giova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operability of Giova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ovanni and Google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Diagram 15"/>
          <p:cNvGrpSpPr/>
          <p:nvPr/>
        </p:nvGrpSpPr>
        <p:grpSpPr>
          <a:xfrm>
            <a:off x="799920" y="1603440"/>
            <a:ext cx="2666160" cy="2007000"/>
            <a:chOff x="799920" y="1603440"/>
            <a:chExt cx="2666160" cy="2007000"/>
          </a:xfrm>
        </p:grpSpPr>
        <p:sp>
          <p:nvSpPr>
            <p:cNvPr id="369" name="_s1028"/>
            <p:cNvSpPr/>
            <p:nvPr/>
          </p:nvSpPr>
          <p:spPr>
            <a:xfrm flipH="1">
              <a:off x="1344600" y="2920680"/>
              <a:ext cx="255600" cy="14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799920" y="2923920"/>
              <a:ext cx="58572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2106360" y="2922480"/>
              <a:ext cx="257400" cy="147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2323800" y="2923920"/>
              <a:ext cx="58608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 flipV="1">
              <a:off x="1854000" y="2187360"/>
              <a:ext cx="0" cy="296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1562040" y="1603440"/>
              <a:ext cx="585720" cy="5857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>
              <a:off x="1562040" y="2484360"/>
              <a:ext cx="585720" cy="5853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Proto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c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60"/>
            <p:cNvSpPr/>
            <p:nvPr/>
          </p:nvSpPr>
          <p:spPr>
            <a:xfrm rot="2713800">
              <a:off x="2612160" y="2990880"/>
              <a:ext cx="845640" cy="374400"/>
            </a:xfrm>
            <a:prstGeom prst="rightArrow">
              <a:avLst>
                <a:gd name="adj1" fmla="val 50000"/>
                <a:gd name="adj2" fmla="val 56466"/>
              </a:avLst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WordArt 172"/>
          <p:cNvSpPr txBox="1"/>
          <p:nvPr/>
        </p:nvSpPr>
        <p:spPr>
          <a:xfrm>
            <a:off x="5638680" y="4253040"/>
            <a:ext cx="313704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68000"/>
                  </a:srgbClr>
                </a:solidFill>
                <a:latin typeface="Arial Black"/>
              </a:rPr>
              <a:t>Interoper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6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B060314-9837-4706-BC52-35FB6AF278E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68"/>
          <p:cNvSpPr/>
          <p:nvPr/>
        </p:nvSpPr>
        <p:spPr>
          <a:xfrm flipV="1" rot="5341800">
            <a:off x="4077000" y="3354120"/>
            <a:ext cx="1884600" cy="2197080"/>
          </a:xfrm>
          <a:prstGeom prst="pie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Diagram 2"/>
          <p:cNvGrpSpPr/>
          <p:nvPr/>
        </p:nvGrpSpPr>
        <p:grpSpPr>
          <a:xfrm>
            <a:off x="3560040" y="244440"/>
            <a:ext cx="2721600" cy="2622960"/>
            <a:chOff x="3560040" y="244440"/>
            <a:chExt cx="2721600" cy="2622960"/>
          </a:xfrm>
        </p:grpSpPr>
        <p:sp>
          <p:nvSpPr>
            <p:cNvPr id="382" name="_s1038"/>
            <p:cNvSpPr/>
            <p:nvPr/>
          </p:nvSpPr>
          <p:spPr>
            <a:xfrm flipH="1" flipV="1">
              <a:off x="4250880" y="1438200"/>
              <a:ext cx="33480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1039"/>
            <p:cNvSpPr/>
            <p:nvPr/>
          </p:nvSpPr>
          <p:spPr>
            <a:xfrm>
              <a:off x="3560040" y="976320"/>
              <a:ext cx="707040" cy="707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40"/>
            <p:cNvSpPr/>
            <p:nvPr/>
          </p:nvSpPr>
          <p:spPr>
            <a:xfrm flipH="1">
              <a:off x="45057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1041"/>
            <p:cNvSpPr/>
            <p:nvPr/>
          </p:nvSpPr>
          <p:spPr>
            <a:xfrm>
              <a:off x="3944880" y="2160360"/>
              <a:ext cx="707040" cy="707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1042"/>
            <p:cNvSpPr/>
            <p:nvPr/>
          </p:nvSpPr>
          <p:spPr>
            <a:xfrm>
              <a:off x="51285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43"/>
            <p:cNvSpPr/>
            <p:nvPr/>
          </p:nvSpPr>
          <p:spPr>
            <a:xfrm>
              <a:off x="5190120" y="2160360"/>
              <a:ext cx="707040" cy="7070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1044"/>
            <p:cNvSpPr/>
            <p:nvPr/>
          </p:nvSpPr>
          <p:spPr>
            <a:xfrm flipV="1">
              <a:off x="5256000" y="1438200"/>
              <a:ext cx="33696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45"/>
            <p:cNvSpPr/>
            <p:nvPr/>
          </p:nvSpPr>
          <p:spPr>
            <a:xfrm>
              <a:off x="5574600" y="976320"/>
              <a:ext cx="707040" cy="7070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P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1046"/>
            <p:cNvSpPr/>
            <p:nvPr/>
          </p:nvSpPr>
          <p:spPr>
            <a:xfrm flipV="1">
              <a:off x="4921200" y="951120"/>
              <a:ext cx="0" cy="35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1047"/>
            <p:cNvSpPr/>
            <p:nvPr/>
          </p:nvSpPr>
          <p:spPr>
            <a:xfrm>
              <a:off x="4567320" y="244440"/>
              <a:ext cx="707040" cy="707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OD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1048"/>
            <p:cNvSpPr/>
            <p:nvPr/>
          </p:nvSpPr>
          <p:spPr>
            <a:xfrm>
              <a:off x="4567320" y="1304640"/>
              <a:ext cx="707040" cy="7070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SATs 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Giovan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366840" y="131760"/>
            <a:ext cx="2815920" cy="1670040"/>
            <a:chOff x="366840" y="131760"/>
            <a:chExt cx="2815920" cy="1670040"/>
          </a:xfrm>
        </p:grpSpPr>
        <p:sp>
          <p:nvSpPr>
            <p:cNvPr id="394" name="Puzzle1"/>
            <p:cNvSpPr/>
            <p:nvPr/>
          </p:nvSpPr>
          <p:spPr>
            <a:xfrm>
              <a:off x="366840" y="131760"/>
              <a:ext cx="2815920" cy="1670040"/>
            </a:xfrm>
            <a:prstGeom prst="pie">
              <a:avLst/>
            </a:prstGeom>
            <a:solidFill>
              <a:srgbClr val="99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871200" y="779040"/>
              <a:ext cx="19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eroso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104"/>
          <p:cNvSpPr/>
          <p:nvPr/>
        </p:nvSpPr>
        <p:spPr>
          <a:xfrm>
            <a:off x="3419640" y="3538440"/>
            <a:ext cx="240984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SA GES 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08"/>
          <p:cNvSpPr/>
          <p:nvPr/>
        </p:nvSpPr>
        <p:spPr>
          <a:xfrm rot="5400000">
            <a:off x="4199400" y="2734200"/>
            <a:ext cx="1506240" cy="304920"/>
          </a:xfrm>
          <a:prstGeom prst="rightArrow">
            <a:avLst>
              <a:gd name="adj1" fmla="val 50000"/>
              <a:gd name="adj2" fmla="val 1068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Diagram 22" descr=""/>
          <p:cNvPicPr/>
          <p:nvPr/>
        </p:nvPicPr>
        <p:blipFill>
          <a:blip r:embed="rId8"/>
          <a:stretch/>
        </p:blipFill>
        <p:spPr>
          <a:xfrm>
            <a:off x="-963720" y="3303720"/>
            <a:ext cx="5724720" cy="3189240"/>
          </a:xfrm>
          <a:prstGeom prst="rect">
            <a:avLst/>
          </a:prstGeom>
          <a:ln w="0">
            <a:noFill/>
          </a:ln>
        </p:spPr>
      </p:pic>
      <p:grpSp>
        <p:nvGrpSpPr>
          <p:cNvPr id="399" name="Diagram 24"/>
          <p:cNvGrpSpPr/>
          <p:nvPr/>
        </p:nvGrpSpPr>
        <p:grpSpPr>
          <a:xfrm>
            <a:off x="6139800" y="1202040"/>
            <a:ext cx="2794320" cy="2790360"/>
            <a:chOff x="6139800" y="1202040"/>
            <a:chExt cx="2794320" cy="2790360"/>
          </a:xfrm>
        </p:grpSpPr>
        <p:sp>
          <p:nvSpPr>
            <p:cNvPr id="400" name="_s1051"/>
            <p:cNvSpPr/>
            <p:nvPr/>
          </p:nvSpPr>
          <p:spPr>
            <a:xfrm flipH="1" flipV="1">
              <a:off x="7043760" y="2103840"/>
              <a:ext cx="24696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1052"/>
            <p:cNvSpPr/>
            <p:nvPr/>
          </p:nvSpPr>
          <p:spPr>
            <a:xfrm>
              <a:off x="644616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tC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053"/>
            <p:cNvSpPr/>
            <p:nvPr/>
          </p:nvSpPr>
          <p:spPr>
            <a:xfrm flipH="1">
              <a:off x="683964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1054"/>
            <p:cNvSpPr/>
            <p:nvPr/>
          </p:nvSpPr>
          <p:spPr>
            <a:xfrm>
              <a:off x="613980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D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/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1055"/>
            <p:cNvSpPr/>
            <p:nvPr/>
          </p:nvSpPr>
          <p:spPr>
            <a:xfrm flipH="1">
              <a:off x="7043760" y="2842560"/>
              <a:ext cx="24696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1056"/>
            <p:cNvSpPr/>
            <p:nvPr/>
          </p:nvSpPr>
          <p:spPr>
            <a:xfrm>
              <a:off x="6447240" y="2988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1057"/>
            <p:cNvSpPr/>
            <p:nvPr/>
          </p:nvSpPr>
          <p:spPr>
            <a:xfrm>
              <a:off x="7536960" y="2944800"/>
              <a:ext cx="0" cy="3488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_s1058"/>
            <p:cNvSpPr/>
            <p:nvPr/>
          </p:nvSpPr>
          <p:spPr>
            <a:xfrm>
              <a:off x="7188840" y="3294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1059"/>
            <p:cNvSpPr/>
            <p:nvPr/>
          </p:nvSpPr>
          <p:spPr>
            <a:xfrm>
              <a:off x="7783200" y="2842560"/>
              <a:ext cx="24732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_s1060"/>
            <p:cNvSpPr/>
            <p:nvPr/>
          </p:nvSpPr>
          <p:spPr>
            <a:xfrm>
              <a:off x="7929000" y="29876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ATL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1061"/>
            <p:cNvSpPr/>
            <p:nvPr/>
          </p:nvSpPr>
          <p:spPr>
            <a:xfrm>
              <a:off x="788508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1062"/>
            <p:cNvSpPr/>
            <p:nvPr/>
          </p:nvSpPr>
          <p:spPr>
            <a:xfrm>
              <a:off x="8235720" y="22478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1063"/>
            <p:cNvSpPr/>
            <p:nvPr/>
          </p:nvSpPr>
          <p:spPr>
            <a:xfrm flipV="1">
              <a:off x="7783200" y="2103840"/>
              <a:ext cx="24732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1064"/>
            <p:cNvSpPr/>
            <p:nvPr/>
          </p:nvSpPr>
          <p:spPr>
            <a:xfrm>
              <a:off x="792828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C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1065"/>
            <p:cNvSpPr/>
            <p:nvPr/>
          </p:nvSpPr>
          <p:spPr>
            <a:xfrm flipV="1">
              <a:off x="7536960" y="1899720"/>
              <a:ext cx="0" cy="348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1066"/>
            <p:cNvSpPr/>
            <p:nvPr/>
          </p:nvSpPr>
          <p:spPr>
            <a:xfrm>
              <a:off x="7187760" y="12020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67"/>
            <p:cNvSpPr/>
            <p:nvPr/>
          </p:nvSpPr>
          <p:spPr>
            <a:xfrm>
              <a:off x="718776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ff"/>
                  </a:solidFill>
                  <a:latin typeface="Verdana"/>
                  <a:ea typeface="Arial"/>
                </a:rPr>
                <a:t>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58"/>
          <p:cNvSpPr/>
          <p:nvPr/>
        </p:nvSpPr>
        <p:spPr>
          <a:xfrm rot="8435400">
            <a:off x="5516280" y="3259080"/>
            <a:ext cx="1089000" cy="231840"/>
          </a:xfrm>
          <a:prstGeom prst="rightArrow">
            <a:avLst>
              <a:gd name="adj1" fmla="val 50000"/>
              <a:gd name="adj2" fmla="val 91748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59"/>
          <p:cNvSpPr/>
          <p:nvPr/>
        </p:nvSpPr>
        <p:spPr>
          <a:xfrm rot="19359600">
            <a:off x="2838240" y="4102200"/>
            <a:ext cx="752400" cy="318960"/>
          </a:xfrm>
          <a:prstGeom prst="rightArrow">
            <a:avLst>
              <a:gd name="adj1" fmla="val 50000"/>
              <a:gd name="adj2" fmla="val 58973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0"/>
          <p:cNvSpPr/>
          <p:nvPr/>
        </p:nvSpPr>
        <p:spPr>
          <a:xfrm>
            <a:off x="2692440" y="16444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be0e3"/>
                </a:solidFill>
                <a:latin typeface="Arial"/>
              </a:rPr>
              <a:t>already in Giovanni 3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474E9F31-5A08-46FF-BA32-2B7BFE13240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34640"/>
            <a:ext cx="6426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C and other m2m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01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M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Giovann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WebG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Giovann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DAP Hyrax 4 serving data on 12 machin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URLs:</a:t>
            </a:r>
            <a:br>
              <a:rPr sz="1800"/>
            </a:b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disc.sci.gsfc.nasa.gov/opendap/</a:t>
            </a:r>
            <a:br>
              <a:rPr sz="1800"/>
            </a:b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train.sci.gsfc.nasa.gov/opendap/</a:t>
            </a:r>
            <a:br>
              <a:rPr sz="18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 sample URL to get WMS data for 'LAYER=AIRX3STD_TOTO3_A‘: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0hep12u.ecs.nasa.gov/mapserv-bin/wms_ogc?TARGET_SRS=EPSG:4326&amp;Service=WMS&amp;VERSION=1.1.1&amp;REQUEST=GetMap&amp;SRS=EPSG:4326&amp;WIDTH=768&amp;HEIGHT=512&amp;BBOX=-180,-90,180,90&amp;LAYERS=AIRX3STM_TOTO3_A,coas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S (Grads-DODS):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gdisc.gsfc.nasa.gov/dod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CA87A73C-A1A7-41F0-B328-45697293751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26920" y="154080"/>
            <a:ext cx="6388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S and WC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280" y="1054080"/>
            <a:ext cx="880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ng MODIS data vi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aps (decorated and undecorated), time-series, Hovmoller, time-averaged maps, differenc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 of Ma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giovanniplus-ts1.sci.gsfc.nasa.gov/daac-bin/G3/giovanni-wms.cgi?SERVICE=WMS&amp;WMTVER=1.0.0&amp;REQUEST=GetMap&amp;SRS=EPSG:4326&amp;EXCEPTIONS=INIMAGE&amp;FORMAT=GIF&amp;BBOX=-130,24,-60,52&amp;TIME=2006-02-01T00:00:00Z&amp;WIDTH=800&amp;HEIGHT=400&amp;LAYERS=MOD08_D3.005::Optical_Depth_Land_And_Ocean_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ng data via WCS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a get capabilities ur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iovanniplus-ts1.sci.gsfc.nasa.gov/daac-bin/G3/giovanni-wcs.cgi?SERVICE=WCS&amp;WMTVER=1.0.0&amp;REQUEST=Get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682C5E2B-DD32-476E-827F-DCFF4F20648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154080"/>
            <a:ext cx="659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CS support outsid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054080"/>
            <a:ext cx="880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NO2 (Level 3)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apabilities and describeCoverage requests </a:t>
            </a: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disc.sci.gsfc.nasa.gov/daac-bin/wcsNO2?service=wcs&amp;version=1.0.0&amp;request=describeCoverag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acdisc.sci.gsfc.nasa.gov/daac-bin/wcsNO2?service=wcs&amp;version=1.0.0&amp;request=get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overage example request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acdisc.sci.gsfc.nasa.gov/daac-bin/wcsNO2?service=WCS&amp;version=1.0.0&amp;request=getCoverage&amp;CRS=WGS84&amp;resx=0.5&amp;resy=0.5&amp;coverage=NO2Total&amp;bbox=-179.75,-89.75,179.75,89.75&amp;TIME=2006-08-01/2006-08-04&amp;format=netC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S X2RET (Level 2 collection 5)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apabilities and describeCoverage reques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getCapabil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describe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Coverage request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g0dup05u.ecs.nasa.gov/cgi-bin/ceopAIRX2RET?service=WCS&amp;version=1.0.0&amp;request=getCoverage&amp;coverage=H2OMMRStd&amp;crs=WGS84&amp;bbox=-179.75,-89.75,179.75,89.75&amp;resX=0.5&amp;resY=0.5&amp;time=2004-07-28&amp;format=netC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erver now supports 28 variables, including both 2D and 3D fields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SurfAir, TAirStd, GP_Height, GP_Surface, PSurfStd, TSurfStd, totH2OStd, H2OMMRStd, H2OMMRSat, H2OMMRSat_liquid, O3VMRStd, totO3Std, PCldTopStd, TCldTopStd, olr, clrolr, CO_total_column, CO_VMR_eff, CO_eff_press, CH4_total_column, CH4_VMR_eff, CH4_eff_press, GP_Height_MWOnly, sfcTbMWStd, EmisMWStd, totH2OMWOnlyStd, totCldH2OStd, and numClou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UVB  and O3 (Level 3) coming shor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952F83CB-97FA-46CC-9ACD-2894D5A785B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2040" y="106200"/>
            <a:ext cx="680400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Quality Tools and Datasets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2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vailable Science Data Sets (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tion data - EPA AirNow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ia WCS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taFed (aggregated and gridded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ia WCS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iov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S TERRA and AQUA total and Fine mode Aerosol Optical Dep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OP Aerosol Feature Mask curtain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 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ropospheric column and Aerosol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Useful Tools for Air Qualit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/ 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atter plots, correlation maps, time series and difference plo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D and 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ps for examining long range transport of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981AD01-71E9-4EF3-BC03-342DB98FB49C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rcRect l="0" t="8052" r="0" b="0"/>
          <a:stretch/>
        </p:blipFill>
        <p:spPr>
          <a:xfrm>
            <a:off x="914400" y="898560"/>
            <a:ext cx="3645000" cy="2392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rcRect l="0" t="7681" r="0" b="0"/>
          <a:stretch/>
        </p:blipFill>
        <p:spPr>
          <a:xfrm>
            <a:off x="4863960" y="888840"/>
            <a:ext cx="3645000" cy="2403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3"/>
          <a:srcRect l="0" t="7681" r="0" b="0"/>
          <a:stretch/>
        </p:blipFill>
        <p:spPr>
          <a:xfrm>
            <a:off x="914400" y="3693960"/>
            <a:ext cx="3643200" cy="2403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4"/>
          <a:srcRect l="0" t="7318" r="0" b="0"/>
          <a:stretch/>
        </p:blipFill>
        <p:spPr>
          <a:xfrm>
            <a:off x="4851360" y="3711600"/>
            <a:ext cx="3645000" cy="2411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0" y="-7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628640" y="3328200"/>
            <a:ext cx="63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PM2.5 (EPA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DataFe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Giovanni)                                                   Deep Blue MODIS Aerosol Optical Dep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1696680" y="7315920"/>
            <a:ext cx="57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andard MODIS A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CART AOT (Goddar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ataFe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Giovan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1333440" y="6165360"/>
            <a:ext cx="71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standard MODIS AO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CART A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ing PM25 d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6F964FC-6FC9-48CB-8E3E-03F70A42910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"/>
          <p:cNvSpPr/>
          <p:nvPr/>
        </p:nvSpPr>
        <p:spPr>
          <a:xfrm>
            <a:off x="457200" y="1666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ovanni Air Quality Data (July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6095880" y="609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 AQUA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52280" y="609480"/>
            <a:ext cx="31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 AirNow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3360" y="3479760"/>
            <a:ext cx="478800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IS and OMI ima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smoke aerosols over the northeast, southeast and Great L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LIOP Aerosol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llow) confirms that aerosols are above th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A AirNow PM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n’t show anything around Great Lakes, i.e. aerosols are primarily above the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8" descr="Aerosol"/>
          <p:cNvPicPr/>
          <p:nvPr/>
        </p:nvPicPr>
        <p:blipFill>
          <a:blip r:embed="rId1"/>
          <a:srcRect l="7716" t="0" r="2003" b="5201"/>
          <a:stretch/>
        </p:blipFill>
        <p:spPr>
          <a:xfrm>
            <a:off x="3124080" y="914400"/>
            <a:ext cx="2895840" cy="2098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Optical_Depth_Land_And_Ocean_Mean"/>
          <p:cNvPicPr/>
          <p:nvPr/>
        </p:nvPicPr>
        <p:blipFill>
          <a:blip r:embed="rId2"/>
          <a:srcRect l="7716" t="0" r="0" b="5201"/>
          <a:stretch/>
        </p:blipFill>
        <p:spPr>
          <a:xfrm>
            <a:off x="6114960" y="914400"/>
            <a:ext cx="2886120" cy="2114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pmfine"/>
          <p:cNvPicPr/>
          <p:nvPr/>
        </p:nvPicPr>
        <p:blipFill>
          <a:blip r:embed="rId3"/>
          <a:srcRect l="7716" t="0" r="0" b="5201"/>
          <a:stretch/>
        </p:blipFill>
        <p:spPr>
          <a:xfrm>
            <a:off x="152280" y="914400"/>
            <a:ext cx="2898720" cy="2103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1"/>
          <p:cNvSpPr/>
          <p:nvPr/>
        </p:nvSpPr>
        <p:spPr>
          <a:xfrm>
            <a:off x="3510720" y="609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I Aeroso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3" descr="VFM"/>
          <p:cNvPicPr/>
          <p:nvPr/>
        </p:nvPicPr>
        <p:blipFill>
          <a:blip r:embed="rId4"/>
          <a:srcRect l="0" t="801" r="2856" b="22405"/>
          <a:stretch/>
        </p:blipFill>
        <p:spPr>
          <a:xfrm>
            <a:off x="4876920" y="36576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459" name="Line 14"/>
          <p:cNvSpPr/>
          <p:nvPr/>
        </p:nvSpPr>
        <p:spPr>
          <a:xfrm flipH="1" flipV="1">
            <a:off x="4800240" y="1523880"/>
            <a:ext cx="213372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5410080" y="3352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OP Aerosol Flag (yel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8EB07748-A60A-4E77-ADCF-CD6F4B59ECD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ovanni Air Quality Services:                  AOD/P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rrelation Maps and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2040" y="1173240"/>
            <a:ext cx="4191120" cy="30477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4654440" y="1219320"/>
            <a:ext cx="4489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7 AOD/P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lation map over the U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ate to good correlation in the eastern U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ignificant differences were found when using the Fine Mode MODIS A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7- AOD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eries over the southe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2">
            <a:lum contrast="20000"/>
          </a:blip>
          <a:srcRect l="2310" t="0" r="5177" b="0"/>
          <a:stretch/>
        </p:blipFill>
        <p:spPr>
          <a:xfrm>
            <a:off x="249120" y="4319640"/>
            <a:ext cx="4442040" cy="2362320"/>
          </a:xfrm>
          <a:prstGeom prst="rect">
            <a:avLst/>
          </a:prstGeom>
          <a:ln w="9360">
            <a:solidFill>
              <a:srgbClr val="0099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1D3C2C7E-9C64-4E3C-B443-1C008ACADD8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PSO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d Smoke Layers over the US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may21_calipso"/>
          <p:cNvPicPr/>
          <p:nvPr/>
        </p:nvPicPr>
        <p:blipFill>
          <a:blip r:embed="rId1"/>
          <a:stretch/>
        </p:blipFill>
        <p:spPr>
          <a:xfrm>
            <a:off x="3962520" y="3962520"/>
            <a:ext cx="3714480" cy="26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1" name="Picture 4" descr="may21_modis"/>
          <p:cNvPicPr/>
          <p:nvPr/>
        </p:nvPicPr>
        <p:blipFill>
          <a:blip r:embed="rId2"/>
          <a:srcRect l="18287" t="0" r="4001" b="0"/>
          <a:stretch/>
        </p:blipFill>
        <p:spPr>
          <a:xfrm>
            <a:off x="5791320" y="123048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may21_pm"/>
          <p:cNvPicPr/>
          <p:nvPr/>
        </p:nvPicPr>
        <p:blipFill>
          <a:blip r:embed="rId3"/>
          <a:srcRect l="20571" t="0" r="7429" b="0"/>
          <a:stretch/>
        </p:blipFill>
        <p:spPr>
          <a:xfrm>
            <a:off x="228600" y="1523880"/>
            <a:ext cx="3276720" cy="27972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3657600" y="1905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4572000" y="2133720"/>
            <a:ext cx="2362320" cy="75960"/>
          </a:xfrm>
          <a:prstGeom prst="line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4572000" y="2133720"/>
            <a:ext cx="990720" cy="3200400"/>
          </a:xfrm>
          <a:prstGeom prst="line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55627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 MODIS Terra AO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304920" y="990720"/>
            <a:ext cx="32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vanni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572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ke in Great Lakes region moving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1E0CA00-B626-4AAF-8949-F29A9344B164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152280" y="914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04920" y="403848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228600" y="1219320"/>
            <a:ext cx="2692080" cy="2422440"/>
            <a:chOff x="228600" y="1219320"/>
            <a:chExt cx="2692080" cy="2422440"/>
          </a:xfrm>
        </p:grpSpPr>
        <p:pic>
          <p:nvPicPr>
            <p:cNvPr id="484" name="Picture 7" descr=""/>
            <p:cNvPicPr/>
            <p:nvPr/>
          </p:nvPicPr>
          <p:blipFill>
            <a:blip r:embed="rId1">
              <a:lum contrast="20000"/>
            </a:blip>
            <a:srcRect l="14567" t="1648" r="17834" b="5949"/>
            <a:stretch/>
          </p:blipFill>
          <p:spPr>
            <a:xfrm>
              <a:off x="228600" y="1219320"/>
              <a:ext cx="2289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8" descr=""/>
            <p:cNvPicPr/>
            <p:nvPr/>
          </p:nvPicPr>
          <p:blipFill>
            <a:blip r:embed="rId2">
              <a:lum contrast="20000"/>
            </a:blip>
            <a:srcRect l="85908" t="1648" r="0" b="5949"/>
            <a:stretch/>
          </p:blipFill>
          <p:spPr>
            <a:xfrm>
              <a:off x="2443320" y="1219320"/>
              <a:ext cx="47736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9"/>
          <p:cNvGrpSpPr/>
          <p:nvPr/>
        </p:nvGrpSpPr>
        <p:grpSpPr>
          <a:xfrm>
            <a:off x="228600" y="3840120"/>
            <a:ext cx="2676240" cy="2384640"/>
            <a:chOff x="228600" y="3840120"/>
            <a:chExt cx="2676240" cy="2384640"/>
          </a:xfrm>
        </p:grpSpPr>
        <p:pic>
          <p:nvPicPr>
            <p:cNvPr id="487" name="Picture 10" descr=""/>
            <p:cNvPicPr/>
            <p:nvPr/>
          </p:nvPicPr>
          <p:blipFill>
            <a:blip r:embed="rId3">
              <a:lum contrast="20000"/>
            </a:blip>
            <a:srcRect l="14994" t="0" r="19178" b="4158"/>
            <a:stretch/>
          </p:blipFill>
          <p:spPr>
            <a:xfrm>
              <a:off x="228600" y="3840120"/>
              <a:ext cx="237492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1" descr=""/>
            <p:cNvPicPr/>
            <p:nvPr/>
          </p:nvPicPr>
          <p:blipFill>
            <a:blip r:embed="rId4">
              <a:lum contrast="20000"/>
            </a:blip>
            <a:srcRect l="85886" t="0" r="5000" b="4158"/>
            <a:stretch/>
          </p:blipFill>
          <p:spPr>
            <a:xfrm>
              <a:off x="2576160" y="3840120"/>
              <a:ext cx="328680" cy="238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Group 12"/>
          <p:cNvGrpSpPr/>
          <p:nvPr/>
        </p:nvGrpSpPr>
        <p:grpSpPr>
          <a:xfrm>
            <a:off x="3048120" y="1219320"/>
            <a:ext cx="2438280" cy="2439720"/>
            <a:chOff x="3048120" y="1219320"/>
            <a:chExt cx="2438280" cy="2439720"/>
          </a:xfrm>
        </p:grpSpPr>
        <p:pic>
          <p:nvPicPr>
            <p:cNvPr id="490" name="Picture 13" descr=""/>
            <p:cNvPicPr/>
            <p:nvPr/>
          </p:nvPicPr>
          <p:blipFill>
            <a:blip r:embed="rId5">
              <a:lum contrast="20000"/>
            </a:blip>
            <a:srcRect l="0" t="0" r="9335" b="0"/>
            <a:stretch/>
          </p:blipFill>
          <p:spPr>
            <a:xfrm>
              <a:off x="3048120" y="1219320"/>
              <a:ext cx="2438280" cy="24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Oval 14"/>
            <p:cNvSpPr/>
            <p:nvPr/>
          </p:nvSpPr>
          <p:spPr>
            <a:xfrm>
              <a:off x="3985560" y="3216600"/>
              <a:ext cx="1312560" cy="2210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16" descr="test66"/>
          <p:cNvPicPr/>
          <p:nvPr/>
        </p:nvPicPr>
        <p:blipFill>
          <a:blip r:embed="rId6">
            <a:lum contrast="20000"/>
          </a:blip>
          <a:srcRect l="0" t="1920" r="9279" b="0"/>
          <a:stretch/>
        </p:blipFill>
        <p:spPr>
          <a:xfrm>
            <a:off x="3048120" y="3860640"/>
            <a:ext cx="2441520" cy="23623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7"/>
          <p:cNvSpPr/>
          <p:nvPr/>
        </p:nvSpPr>
        <p:spPr>
          <a:xfrm>
            <a:off x="5799240" y="1447920"/>
            <a:ext cx="30859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2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07: Smoke over North Carolina. High AOD and low 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r=0.54). There is also haze in the south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5602320" y="3753000"/>
            <a:ext cx="33526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correlation over this region when excluding smoke areas (r=0.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ovanni data sets and tools help provide a more complete understanding of the origin, evolution, and vertical distribution of aerosol pollution over the continental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 flipH="1">
            <a:off x="4876920" y="2286000"/>
            <a:ext cx="1218960" cy="990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0"/>
          <p:cNvSpPr/>
          <p:nvPr/>
        </p:nvSpPr>
        <p:spPr>
          <a:xfrm flipH="1">
            <a:off x="5257440" y="4191120"/>
            <a:ext cx="68580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25560" y="25560"/>
            <a:ext cx="756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ovanni Air Quality tools:                                  Understanding AOD/PM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rrel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48BB013E-88A0-4D92-B3C0-9E6245E63C67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0320" y="673200"/>
            <a:ext cx="3321720" cy="581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About Giov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3200" y="1368360"/>
            <a:ext cx="7754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iovanni is a Web-based application developed by the NASA Goddard Earth Sciences Data and Information Services Center (GES DISC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iovanni provides a simple and easy way to explore, visualize, analyze, and access vast amounts of  Earth science remote sensing  and mode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934D1E62-DDD4-4C53-9F9F-0A23515C358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test"/>
          <p:cNvPicPr/>
          <p:nvPr/>
        </p:nvPicPr>
        <p:blipFill>
          <a:blip r:embed="rId1">
            <a:lum contrast="20000"/>
          </a:blip>
          <a:srcRect l="0" t="12767" r="3391" b="2124"/>
          <a:stretch/>
        </p:blipFill>
        <p:spPr>
          <a:xfrm>
            <a:off x="5410080" y="41148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test3"/>
          <p:cNvPicPr/>
          <p:nvPr/>
        </p:nvPicPr>
        <p:blipFill>
          <a:blip r:embed="rId2">
            <a:lum contrast="20000"/>
          </a:blip>
          <a:srcRect l="0" t="13334" r="0" b="0"/>
          <a:stretch/>
        </p:blipFill>
        <p:spPr>
          <a:xfrm>
            <a:off x="5334120" y="10666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6095880" y="3809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-3 MODIS A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172200" y="7621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A 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ug/m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3">
            <a:lum contrast="20000"/>
          </a:blip>
          <a:srcRect l="0" t="7846" r="0" b="22579"/>
          <a:stretch/>
        </p:blipFill>
        <p:spPr>
          <a:xfrm>
            <a:off x="152280" y="11430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9"/>
          <p:cNvSpPr/>
          <p:nvPr/>
        </p:nvSpPr>
        <p:spPr>
          <a:xfrm>
            <a:off x="152280" y="3733920"/>
            <a:ext cx="335304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IOP Aerosol Flag (yellow) for examining the vertical aerosol 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sols in Georgia and Alabama from the surface to 4 km, AOD/P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orrelation is moderately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sols in the northeast are above boundary layer,  AOD/PM2.5 correlation is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286000" y="2666880"/>
            <a:ext cx="5562720" cy="2743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7924680" y="5257800"/>
            <a:ext cx="457200" cy="474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2" descr=""/>
          <p:cNvPicPr/>
          <p:nvPr/>
        </p:nvPicPr>
        <p:blipFill>
          <a:blip r:embed="rId4">
            <a:lum contrast="20000"/>
          </a:blip>
          <a:srcRect l="0" t="0" r="9304" b="0"/>
          <a:stretch/>
        </p:blipFill>
        <p:spPr>
          <a:xfrm>
            <a:off x="3429000" y="426708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"/>
          <p:cNvPicPr/>
          <p:nvPr/>
        </p:nvPicPr>
        <p:blipFill>
          <a:blip r:embed="rId5">
            <a:lum contrast="20000"/>
          </a:blip>
          <a:srcRect l="0" t="0" r="10526" b="0"/>
          <a:stretch/>
        </p:blipFill>
        <p:spPr>
          <a:xfrm>
            <a:off x="4114800" y="2133720"/>
            <a:ext cx="1752480" cy="15094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4"/>
          <p:cNvSpPr/>
          <p:nvPr/>
        </p:nvSpPr>
        <p:spPr>
          <a:xfrm>
            <a:off x="8153280" y="4952880"/>
            <a:ext cx="5335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5410080" y="3581280"/>
            <a:ext cx="2743200" cy="1447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5257800" y="5105520"/>
            <a:ext cx="266688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ovanni Air Quality tools:                                 Understanding AOD/PM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r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8F5AE726-C476-4081-8619-A0A87D2383E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VFM"/>
          <p:cNvPicPr/>
          <p:nvPr/>
        </p:nvPicPr>
        <p:blipFill>
          <a:blip r:embed="rId1"/>
          <a:srcRect l="0" t="2321" r="1749" b="19571"/>
          <a:stretch/>
        </p:blipFill>
        <p:spPr>
          <a:xfrm>
            <a:off x="5105520" y="365040"/>
            <a:ext cx="3743280" cy="2244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Optical_Depth_Land_And_Ocean_Mean"/>
          <p:cNvPicPr/>
          <p:nvPr/>
        </p:nvPicPr>
        <p:blipFill>
          <a:blip r:embed="rId2"/>
          <a:srcRect l="0" t="0" r="0" b="4709"/>
          <a:stretch/>
        </p:blipFill>
        <p:spPr>
          <a:xfrm>
            <a:off x="228600" y="304920"/>
            <a:ext cx="4648320" cy="3371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Aerosol"/>
          <p:cNvPicPr/>
          <p:nvPr/>
        </p:nvPicPr>
        <p:blipFill>
          <a:blip r:embed="rId3"/>
          <a:srcRect l="0" t="14801" r="2003" b="3598"/>
          <a:stretch/>
        </p:blipFill>
        <p:spPr>
          <a:xfrm>
            <a:off x="227160" y="3695760"/>
            <a:ext cx="4640040" cy="280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152388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3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VFM"/>
          <p:cNvPicPr/>
          <p:nvPr/>
        </p:nvPicPr>
        <p:blipFill>
          <a:blip r:embed="rId4"/>
          <a:srcRect l="0" t="7839" r="8569" b="22761"/>
          <a:stretch/>
        </p:blipFill>
        <p:spPr>
          <a:xfrm>
            <a:off x="5119560" y="27417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521" name="Line 9"/>
          <p:cNvSpPr/>
          <p:nvPr/>
        </p:nvSpPr>
        <p:spPr>
          <a:xfrm flipH="1" flipV="1">
            <a:off x="2057400" y="1294920"/>
            <a:ext cx="402120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3124080" y="2285640"/>
            <a:ext cx="36576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5029200" y="5181480"/>
            <a:ext cx="380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anada and the north-central US, MODIS and OMI show thick aerosols plumes. CALIOP overpass has a plume above the boundar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BFA41439-E6FF-44B6-9155-EAC379162C1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 31, 2007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e over the south easter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pmfine"/>
          <p:cNvPicPr/>
          <p:nvPr/>
        </p:nvPicPr>
        <p:blipFill>
          <a:blip r:embed="rId1"/>
          <a:srcRect l="0" t="15050" r="0" b="5443"/>
          <a:stretch/>
        </p:blipFill>
        <p:spPr>
          <a:xfrm>
            <a:off x="457200" y="1128600"/>
            <a:ext cx="4038480" cy="2683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Optical_Depth_Land_And_Ocean_Mean"/>
          <p:cNvPicPr/>
          <p:nvPr/>
        </p:nvPicPr>
        <p:blipFill>
          <a:blip r:embed="rId2"/>
          <a:srcRect l="0" t="14823" r="0" b="4127"/>
          <a:stretch/>
        </p:blipFill>
        <p:spPr>
          <a:xfrm>
            <a:off x="4724280" y="111600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7"/>
          <p:cNvSpPr/>
          <p:nvPr/>
        </p:nvSpPr>
        <p:spPr>
          <a:xfrm>
            <a:off x="228600" y="3881520"/>
            <a:ext cx="4533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southeast (Tennessee, Mississippi, Alabama and Arkansas) MODIS and P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ow good spatial agreement and have moderately good correlation (see scatter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OMI Aerosol Index and CALIPSO Aerosol flag (see previous slide) also indicate aerosols are primarily confined to the boundary layer in thes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MYD08_D3"/>
          <p:cNvPicPr/>
          <p:nvPr/>
        </p:nvPicPr>
        <p:blipFill>
          <a:blip r:embed="rId3"/>
          <a:srcRect l="5625" t="4437" r="4000" b="5601"/>
          <a:stretch/>
        </p:blipFill>
        <p:spPr>
          <a:xfrm>
            <a:off x="4998960" y="3978360"/>
            <a:ext cx="35164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F650C35F-1C72-46A7-95BA-A4F99AB7CD69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modis_omi_2caltrack_073107"/>
          <p:cNvPicPr/>
          <p:nvPr/>
        </p:nvPicPr>
        <p:blipFill>
          <a:blip r:embed="rId1"/>
          <a:stretch/>
        </p:blipFill>
        <p:spPr>
          <a:xfrm>
            <a:off x="380880" y="2286000"/>
            <a:ext cx="4724640" cy="342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VFM"/>
          <p:cNvPicPr/>
          <p:nvPr/>
        </p:nvPicPr>
        <p:blipFill>
          <a:blip r:embed="rId2"/>
          <a:srcRect l="0" t="0" r="3742" b="19571"/>
          <a:stretch/>
        </p:blipFill>
        <p:spPr>
          <a:xfrm>
            <a:off x="5261040" y="1828800"/>
            <a:ext cx="3740040" cy="2438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VFM"/>
          <p:cNvPicPr/>
          <p:nvPr/>
        </p:nvPicPr>
        <p:blipFill>
          <a:blip r:embed="rId3"/>
          <a:srcRect l="0" t="7839" r="11927" b="22761"/>
          <a:stretch/>
        </p:blipFill>
        <p:spPr>
          <a:xfrm>
            <a:off x="5257800" y="4334040"/>
            <a:ext cx="3743280" cy="21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 31, 2007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e over the south easter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644400" y="5845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I contours over MODIS AOD. White lines indicated CALIPSO over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 flipH="1" flipV="1">
            <a:off x="3047760" y="3809880"/>
            <a:ext cx="4190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"/>
          <p:cNvSpPr/>
          <p:nvPr/>
        </p:nvSpPr>
        <p:spPr>
          <a:xfrm flipH="1" flipV="1">
            <a:off x="1904760" y="3048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3EE021CF-B707-4850-BD67-ED8F3F844F57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28692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96A363F8-A34C-4AA9-B59B-E5685C99A8A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1447920"/>
            <a:ext cx="8305920" cy="48765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546" name="Text Box 5"/>
          <p:cNvSpPr/>
          <p:nvPr/>
        </p:nvSpPr>
        <p:spPr>
          <a:xfrm>
            <a:off x="358920" y="749160"/>
            <a:ext cx="855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ing Giovanni Data into Google Earth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5FC59BA3-22E1-4E8C-ADC6-0690933E2639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6880" y="582120"/>
            <a:ext cx="661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-Train in Google Earth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vi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Giovanni: Calipso Li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Content Placeholder 6" descr="Pakistan storm.jpg"/>
          <p:cNvPicPr/>
          <p:nvPr/>
        </p:nvPicPr>
        <p:blipFill>
          <a:blip r:embed="rId1"/>
          <a:stretch/>
        </p:blipFill>
        <p:spPr>
          <a:xfrm>
            <a:off x="1015920" y="1584360"/>
            <a:ext cx="70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E559B3F-848A-4217-9508-8E0E810FA3D6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92120" y="139536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d AOD and 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rrelation maps and time series plots. Fine Mode AOD also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OD/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rrel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dicates the MODIS algorithm is capturing aerosols at the surface in addition to elevated aerosols (if 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OD and low 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indicate the presence of aerosol plumes above the boundar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IPSO overpa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if available) together with AOD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lations and scatter plots to qualitatively assess the vertical distribution of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s are less sensitive to aerosols in the boundary layer, so if OMI doesn’t show high aerosol while MODIS does, it may indicate aerosol being in the boundar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S algorithm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.g. retrieval problems over bright surfaces) may affect cor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60480" y="1144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sis of U.S Air Quality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Test Case - N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badi MT Condensed Ligh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Air Pollution Data from Aura 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USE4"/>
          <p:cNvPicPr/>
          <p:nvPr/>
        </p:nvPicPr>
        <p:blipFill>
          <a:blip r:embed="rId1"/>
          <a:stretch/>
        </p:blipFill>
        <p:spPr>
          <a:xfrm>
            <a:off x="181080" y="1000080"/>
            <a:ext cx="5964120" cy="530064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8" name="Picture 5" descr="IND"/>
          <p:cNvPicPr/>
          <p:nvPr/>
        </p:nvPicPr>
        <p:blipFill>
          <a:blip r:embed="rId2"/>
          <a:stretch/>
        </p:blipFill>
        <p:spPr>
          <a:xfrm>
            <a:off x="6300720" y="1000080"/>
            <a:ext cx="2668680" cy="302580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59" name="Text Box 7"/>
          <p:cNvSpPr/>
          <p:nvPr/>
        </p:nvSpPr>
        <p:spPr>
          <a:xfrm>
            <a:off x="135000" y="6383160"/>
            <a:ext cx="884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amges Courtesy of Mark O. Wenig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ic J. Bucsela, Edward A. Celarier, James F. Gleason, 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Pepijn Veefkind,   K. Folkert Boersma, Ellen Brinksma, KN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EU"/>
          <p:cNvPicPr/>
          <p:nvPr/>
        </p:nvPicPr>
        <p:blipFill>
          <a:blip r:embed="rId3"/>
          <a:stretch/>
        </p:blipFill>
        <p:spPr>
          <a:xfrm>
            <a:off x="6292800" y="4465800"/>
            <a:ext cx="2657520" cy="1809720"/>
          </a:xfrm>
          <a:prstGeom prst="rect">
            <a:avLst/>
          </a:prstGeom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26C3DC67-05DA-44F2-BBBA-AAEEE447F05A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4"/>
          <p:cNvGrpSpPr/>
          <p:nvPr/>
        </p:nvGrpSpPr>
        <p:grpSpPr>
          <a:xfrm>
            <a:off x="1380960" y="835200"/>
            <a:ext cx="6345360" cy="5554440"/>
            <a:chOff x="1380960" y="835200"/>
            <a:chExt cx="6345360" cy="5554440"/>
          </a:xfrm>
        </p:grpSpPr>
        <p:pic>
          <p:nvPicPr>
            <p:cNvPr id="147" name="Picture 2005" descr="S19972642001354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3847320" y="2566440"/>
              <a:ext cx="3300480" cy="17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006"/>
            <p:cNvSpPr/>
            <p:nvPr/>
          </p:nvSpPr>
          <p:spPr>
            <a:xfrm>
              <a:off x="4623840" y="2783520"/>
              <a:ext cx="304920" cy="1322640"/>
            </a:xfrm>
            <a:prstGeom prst="rect">
              <a:avLst/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007"/>
            <p:cNvSpPr/>
            <p:nvPr/>
          </p:nvSpPr>
          <p:spPr>
            <a:xfrm>
              <a:off x="5677200" y="3174840"/>
              <a:ext cx="192600" cy="16380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008"/>
            <p:cNvSpPr/>
            <p:nvPr/>
          </p:nvSpPr>
          <p:spPr>
            <a:xfrm>
              <a:off x="5060520" y="2911680"/>
              <a:ext cx="423360" cy="24768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009"/>
            <p:cNvSpPr/>
            <p:nvPr/>
          </p:nvSpPr>
          <p:spPr>
            <a:xfrm>
              <a:off x="5936040" y="2899800"/>
              <a:ext cx="410400" cy="192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10"/>
            <p:cNvSpPr/>
            <p:nvPr/>
          </p:nvSpPr>
          <p:spPr>
            <a:xfrm>
              <a:off x="6026760" y="3287520"/>
              <a:ext cx="603360" cy="59616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011"/>
            <p:cNvSpPr/>
            <p:nvPr/>
          </p:nvSpPr>
          <p:spPr>
            <a:xfrm flipV="1">
              <a:off x="6628320" y="2393280"/>
              <a:ext cx="21240" cy="926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012"/>
            <p:cNvSpPr/>
            <p:nvPr/>
          </p:nvSpPr>
          <p:spPr>
            <a:xfrm flipV="1">
              <a:off x="6371280" y="4354200"/>
              <a:ext cx="1440" cy="2426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013"/>
            <p:cNvSpPr/>
            <p:nvPr/>
          </p:nvSpPr>
          <p:spPr>
            <a:xfrm>
              <a:off x="4668120" y="4102920"/>
              <a:ext cx="1440" cy="4953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014"/>
            <p:cNvSpPr/>
            <p:nvPr/>
          </p:nvSpPr>
          <p:spPr>
            <a:xfrm>
              <a:off x="4638600" y="4566240"/>
              <a:ext cx="60840" cy="6120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015"/>
            <p:cNvSpPr/>
            <p:nvPr/>
          </p:nvSpPr>
          <p:spPr>
            <a:xfrm>
              <a:off x="5902920" y="4566240"/>
              <a:ext cx="60840" cy="6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016"/>
            <p:cNvSpPr/>
            <p:nvPr/>
          </p:nvSpPr>
          <p:spPr>
            <a:xfrm>
              <a:off x="6339960" y="4566240"/>
              <a:ext cx="57600" cy="6120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17"/>
            <p:cNvSpPr/>
            <p:nvPr/>
          </p:nvSpPr>
          <p:spPr>
            <a:xfrm flipV="1">
              <a:off x="4376520" y="2401920"/>
              <a:ext cx="1440" cy="766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18"/>
            <p:cNvSpPr/>
            <p:nvPr/>
          </p:nvSpPr>
          <p:spPr>
            <a:xfrm>
              <a:off x="5649120" y="2354400"/>
              <a:ext cx="62640" cy="59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19"/>
            <p:cNvSpPr/>
            <p:nvPr/>
          </p:nvSpPr>
          <p:spPr>
            <a:xfrm>
              <a:off x="4348440" y="2354400"/>
              <a:ext cx="59040" cy="597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20"/>
            <p:cNvSpPr/>
            <p:nvPr/>
          </p:nvSpPr>
          <p:spPr>
            <a:xfrm flipV="1">
              <a:off x="5259960" y="2473920"/>
              <a:ext cx="1440" cy="4374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21"/>
            <p:cNvSpPr/>
            <p:nvPr/>
          </p:nvSpPr>
          <p:spPr>
            <a:xfrm flipV="1">
              <a:off x="5677200" y="2378160"/>
              <a:ext cx="3240" cy="798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22"/>
            <p:cNvSpPr/>
            <p:nvPr/>
          </p:nvSpPr>
          <p:spPr>
            <a:xfrm flipV="1">
              <a:off x="5931000" y="3089520"/>
              <a:ext cx="3240" cy="149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23"/>
            <p:cNvSpPr/>
            <p:nvPr/>
          </p:nvSpPr>
          <p:spPr>
            <a:xfrm>
              <a:off x="4531320" y="4140720"/>
              <a:ext cx="1928880" cy="2167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090" descr="Pacific_cross_section_watervapor_massmixing_ascending_day"/>
            <p:cNvPicPr/>
            <p:nvPr/>
          </p:nvPicPr>
          <p:blipFill>
            <a:blip r:embed="rId2">
              <a:lum contrast="20000"/>
            </a:blip>
            <a:srcRect l="2189" t="0" r="6164" b="3449"/>
            <a:stretch/>
          </p:blipFill>
          <p:spPr>
            <a:xfrm>
              <a:off x="3324600" y="4662000"/>
              <a:ext cx="1388160" cy="1338120"/>
            </a:xfrm>
            <a:prstGeom prst="rect">
              <a:avLst/>
            </a:prstGeom>
            <a:ln w="3240">
              <a:solidFill>
                <a:srgbClr val="808080"/>
              </a:solidFill>
              <a:miter/>
            </a:ln>
          </p:spPr>
        </p:pic>
        <p:sp>
          <p:nvSpPr>
            <p:cNvPr id="167" name="Oval 2096"/>
            <p:cNvSpPr/>
            <p:nvPr/>
          </p:nvSpPr>
          <p:spPr>
            <a:xfrm>
              <a:off x="4882680" y="6323040"/>
              <a:ext cx="62640" cy="66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080" bIns="1080" anchor="ctr">
              <a:noAutofit/>
            </a:bodyPr>
            <a:p>
              <a:pPr algn="ctr">
                <a:lnSpc>
                  <a:spcPct val="100000"/>
                </a:lnSpc>
                <a:buClr>
                  <a:srgbClr val="ff6600"/>
                </a:buClr>
                <a:buFont typeface="Helvetica"/>
                <a:buChar char="•"/>
                <a:tabLst>
                  <a:tab algn="l" pos="2398680"/>
                  <a:tab algn="l" pos="4797360"/>
                  <a:tab algn="l" pos="7196040"/>
                  <a:tab algn="l" pos="959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2097" descr=""/>
            <p:cNvPicPr/>
            <p:nvPr/>
          </p:nvPicPr>
          <p:blipFill>
            <a:blip r:embed="rId3">
              <a:lum contrast="20000"/>
            </a:blip>
            <a:srcRect l="10120" t="19817" r="15054" b="14497"/>
            <a:stretch/>
          </p:blipFill>
          <p:spPr>
            <a:xfrm>
              <a:off x="4838040" y="4662000"/>
              <a:ext cx="1388160" cy="1338120"/>
            </a:xfrm>
            <a:prstGeom prst="rect">
              <a:avLst/>
            </a:prstGeom>
            <a:ln w="3240">
              <a:solidFill>
                <a:srgbClr val="808080"/>
              </a:solidFill>
              <a:miter/>
            </a:ln>
          </p:spPr>
        </p:pic>
        <p:pic>
          <p:nvPicPr>
            <p:cNvPr id="169" name="Picture 2098" descr=""/>
            <p:cNvPicPr/>
            <p:nvPr/>
          </p:nvPicPr>
          <p:blipFill>
            <a:blip r:embed="rId4"/>
            <a:srcRect l="536" t="16918" r="4400" b="4663"/>
            <a:stretch/>
          </p:blipFill>
          <p:spPr>
            <a:xfrm>
              <a:off x="4824720" y="891360"/>
              <a:ext cx="138816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Line 2099"/>
            <p:cNvSpPr/>
            <p:nvPr/>
          </p:nvSpPr>
          <p:spPr>
            <a:xfrm>
              <a:off x="4376520" y="2479320"/>
              <a:ext cx="883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2100"/>
            <p:cNvGrpSpPr/>
            <p:nvPr/>
          </p:nvGrpSpPr>
          <p:grpSpPr>
            <a:xfrm>
              <a:off x="6338160" y="4662000"/>
              <a:ext cx="1388160" cy="1338120"/>
              <a:chOff x="6338160" y="4662000"/>
              <a:chExt cx="1388160" cy="1338120"/>
            </a:xfrm>
          </p:grpSpPr>
          <p:pic>
            <p:nvPicPr>
              <p:cNvPr id="172" name="Picture 2101" descr=""/>
              <p:cNvPicPr/>
              <p:nvPr/>
            </p:nvPicPr>
            <p:blipFill>
              <a:blip r:embed="rId5">
                <a:lum contrast="20000"/>
              </a:blip>
              <a:srcRect l="16288" t="2306" r="17573" b="6721"/>
              <a:stretch/>
            </p:blipFill>
            <p:spPr>
              <a:xfrm>
                <a:off x="6338160" y="4662000"/>
                <a:ext cx="1240920" cy="13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102" descr=""/>
              <p:cNvPicPr/>
              <p:nvPr/>
            </p:nvPicPr>
            <p:blipFill>
              <a:blip r:embed="rId6">
                <a:lum contrast="20000"/>
              </a:blip>
              <a:srcRect l="88144" t="2306" r="3428" b="6721"/>
              <a:stretch/>
            </p:blipFill>
            <p:spPr>
              <a:xfrm>
                <a:off x="7568280" y="4662000"/>
                <a:ext cx="158040" cy="133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Text Box 2103"/>
            <p:cNvSpPr/>
            <p:nvPr/>
          </p:nvSpPr>
          <p:spPr>
            <a:xfrm>
              <a:off x="4788000" y="2212560"/>
              <a:ext cx="14468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erosol from MODIS and GOCART mod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104"/>
            <p:cNvSpPr/>
            <p:nvPr/>
          </p:nvSpPr>
          <p:spPr>
            <a:xfrm>
              <a:off x="3301560" y="2212560"/>
              <a:ext cx="14256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rticulate Matter (PM 2.5) from AIRNow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105"/>
            <p:cNvSpPr/>
            <p:nvPr/>
          </p:nvSpPr>
          <p:spPr>
            <a:xfrm>
              <a:off x="6588360" y="5969520"/>
              <a:ext cx="8388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zone Hole from OM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106"/>
            <p:cNvGrpSpPr/>
            <p:nvPr/>
          </p:nvGrpSpPr>
          <p:grpSpPr>
            <a:xfrm>
              <a:off x="6323400" y="891360"/>
              <a:ext cx="1391760" cy="1337760"/>
              <a:chOff x="6323400" y="891360"/>
              <a:chExt cx="1391760" cy="1337760"/>
            </a:xfrm>
          </p:grpSpPr>
          <p:sp>
            <p:nvSpPr>
              <p:cNvPr id="178" name="Line 2107"/>
              <p:cNvSpPr/>
              <p:nvPr/>
            </p:nvSpPr>
            <p:spPr>
              <a:xfrm>
                <a:off x="6989400" y="1283040"/>
                <a:ext cx="11160" cy="697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108"/>
              <p:cNvSpPr/>
              <p:nvPr/>
            </p:nvSpPr>
            <p:spPr>
              <a:xfrm>
                <a:off x="6954480" y="1255680"/>
                <a:ext cx="59040" cy="6012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2109"/>
              <p:cNvSpPr/>
              <p:nvPr/>
            </p:nvSpPr>
            <p:spPr>
              <a:xfrm>
                <a:off x="6588720" y="1001880"/>
                <a:ext cx="8892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Aerosol from GOCART mode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110"/>
              <p:cNvSpPr/>
              <p:nvPr/>
            </p:nvSpPr>
            <p:spPr>
              <a:xfrm>
                <a:off x="6323400" y="891360"/>
                <a:ext cx="1333800" cy="133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2111" descr=""/>
              <p:cNvPicPr/>
              <p:nvPr/>
            </p:nvPicPr>
            <p:blipFill>
              <a:blip r:embed="rId7">
                <a:lum contrast="20000"/>
              </a:blip>
              <a:srcRect l="18048" t="8203" r="21141" b="3803"/>
              <a:stretch/>
            </p:blipFill>
            <p:spPr>
              <a:xfrm>
                <a:off x="6348960" y="966960"/>
                <a:ext cx="1119600" cy="124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2112" descr=""/>
              <p:cNvPicPr/>
              <p:nvPr/>
            </p:nvPicPr>
            <p:blipFill>
              <a:blip r:embed="rId8">
                <a:lum contrast="20000"/>
              </a:blip>
              <a:srcRect l="85197" t="8203" r="6149" b="9654"/>
              <a:stretch/>
            </p:blipFill>
            <p:spPr>
              <a:xfrm>
                <a:off x="7470720" y="1032840"/>
                <a:ext cx="159120" cy="11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113"/>
              <p:cNvSpPr/>
              <p:nvPr/>
            </p:nvSpPr>
            <p:spPr>
              <a:xfrm>
                <a:off x="7356240" y="969120"/>
                <a:ext cx="358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3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ppmv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2114" descr=""/>
            <p:cNvPicPr/>
            <p:nvPr/>
          </p:nvPicPr>
          <p:blipFill>
            <a:blip r:embed="rId9"/>
            <a:srcRect l="7147" t="2199" r="51873" b="94035"/>
            <a:stretch/>
          </p:blipFill>
          <p:spPr>
            <a:xfrm>
              <a:off x="6438960" y="896400"/>
              <a:ext cx="94608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115" descr=""/>
            <p:cNvPicPr/>
            <p:nvPr/>
          </p:nvPicPr>
          <p:blipFill>
            <a:blip r:embed="rId10"/>
            <a:srcRect l="38296" t="5613" r="37001" b="91615"/>
            <a:stretch/>
          </p:blipFill>
          <p:spPr>
            <a:xfrm>
              <a:off x="6640200" y="947880"/>
              <a:ext cx="570240" cy="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2116"/>
            <p:cNvSpPr/>
            <p:nvPr/>
          </p:nvSpPr>
          <p:spPr>
            <a:xfrm>
              <a:off x="7263360" y="930600"/>
              <a:ext cx="1134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117"/>
            <p:cNvSpPr/>
            <p:nvPr/>
          </p:nvSpPr>
          <p:spPr>
            <a:xfrm>
              <a:off x="6620400" y="2354400"/>
              <a:ext cx="62640" cy="597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18"/>
            <p:cNvSpPr/>
            <p:nvPr/>
          </p:nvSpPr>
          <p:spPr>
            <a:xfrm>
              <a:off x="6495480" y="2212560"/>
              <a:ext cx="10584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arbon Monoxide from AIR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19"/>
            <p:cNvSpPr/>
            <p:nvPr/>
          </p:nvSpPr>
          <p:spPr>
            <a:xfrm>
              <a:off x="3575880" y="5983200"/>
              <a:ext cx="892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Water Vapor from AIR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120"/>
            <p:cNvSpPr/>
            <p:nvPr/>
          </p:nvSpPr>
          <p:spPr>
            <a:xfrm>
              <a:off x="4947480" y="5983200"/>
              <a:ext cx="11527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4797360"/>
                  <a:tab algn="l" pos="7196040"/>
                  <a:tab algn="l" pos="959472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ODIS vs SeaWiFS Chlorophy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21"/>
            <p:cNvSpPr/>
            <p:nvPr/>
          </p:nvSpPr>
          <p:spPr>
            <a:xfrm>
              <a:off x="1405440" y="835200"/>
              <a:ext cx="1912320" cy="1438920"/>
            </a:xfrm>
            <a:custGeom>
              <a:avLst/>
              <a:gdLst>
                <a:gd name="textAreaLeft" fmla="*/ 334440 w 1912320"/>
                <a:gd name="textAreaRight" fmla="*/ 1386360 w 1912320"/>
                <a:gd name="textAreaTop" fmla="*/ 192600 h 1438920"/>
                <a:gd name="textAreaBottom" fmla="*/ 1246320 h 143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  <a:effectLst>
              <a:outerShdw dist="153753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122"/>
            <p:cNvSpPr/>
            <p:nvPr/>
          </p:nvSpPr>
          <p:spPr>
            <a:xfrm rot="20622000">
              <a:off x="2541600" y="3817440"/>
              <a:ext cx="586800" cy="1999440"/>
            </a:xfrm>
            <a:custGeom>
              <a:avLst/>
              <a:gdLst>
                <a:gd name="textAreaLeft" fmla="*/ 78480 w 586800"/>
                <a:gd name="textAreaRight" fmla="*/ 508320 w 586800"/>
                <a:gd name="textAreaTop" fmla="*/ 349920 h 1999440"/>
                <a:gd name="textAreaBottom" fmla="*/ 1449720 h 19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  <a:effectLst>
              <a:outerShdw dist="153753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123" descr=""/>
            <p:cNvPicPr/>
            <p:nvPr/>
          </p:nvPicPr>
          <p:blipFill>
            <a:blip r:embed="rId11">
              <a:lum contrast="20000"/>
            </a:blip>
            <a:stretch/>
          </p:blipFill>
          <p:spPr>
            <a:xfrm>
              <a:off x="2580840" y="2749320"/>
              <a:ext cx="791280" cy="11242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195" name="Picture 2124" descr=""/>
            <p:cNvPicPr/>
            <p:nvPr/>
          </p:nvPicPr>
          <p:blipFill>
            <a:blip r:embed="rId12">
              <a:lum contrast="20000"/>
            </a:blip>
            <a:stretch/>
          </p:blipFill>
          <p:spPr>
            <a:xfrm>
              <a:off x="2526480" y="2920320"/>
              <a:ext cx="792720" cy="11242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196" name="Picture 2125" descr=""/>
            <p:cNvPicPr/>
            <p:nvPr/>
          </p:nvPicPr>
          <p:blipFill>
            <a:blip r:embed="rId13">
              <a:lum contrast="20000"/>
            </a:blip>
            <a:stretch/>
          </p:blipFill>
          <p:spPr>
            <a:xfrm>
              <a:off x="2480400" y="3099600"/>
              <a:ext cx="791280" cy="11278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sp>
          <p:nvSpPr>
            <p:cNvPr id="197" name="Text Box 2126"/>
            <p:cNvSpPr/>
            <p:nvPr/>
          </p:nvSpPr>
          <p:spPr>
            <a:xfrm>
              <a:off x="2617200" y="2359440"/>
              <a:ext cx="7236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iovanni Instan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127"/>
            <p:cNvGrpSpPr/>
            <p:nvPr/>
          </p:nvGrpSpPr>
          <p:grpSpPr>
            <a:xfrm>
              <a:off x="1392480" y="2657160"/>
              <a:ext cx="967320" cy="274320"/>
              <a:chOff x="1392480" y="2657160"/>
              <a:chExt cx="967320" cy="274320"/>
            </a:xfrm>
          </p:grpSpPr>
          <p:sp>
            <p:nvSpPr>
              <p:cNvPr id="199" name="Rectangle 2128"/>
              <p:cNvSpPr/>
              <p:nvPr/>
            </p:nvSpPr>
            <p:spPr>
              <a:xfrm>
                <a:off x="1392480" y="2672640"/>
                <a:ext cx="967320" cy="258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129"/>
              <p:cNvSpPr/>
              <p:nvPr/>
            </p:nvSpPr>
            <p:spPr>
              <a:xfrm>
                <a:off x="1481040" y="2657160"/>
                <a:ext cx="8330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CloudSa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130"/>
            <p:cNvGrpSpPr/>
            <p:nvPr/>
          </p:nvGrpSpPr>
          <p:grpSpPr>
            <a:xfrm>
              <a:off x="1392480" y="4128480"/>
              <a:ext cx="967320" cy="262440"/>
              <a:chOff x="1392480" y="4128480"/>
              <a:chExt cx="967320" cy="262440"/>
            </a:xfrm>
          </p:grpSpPr>
          <p:sp>
            <p:nvSpPr>
              <p:cNvPr id="202" name="Rectangle 2131"/>
              <p:cNvSpPr/>
              <p:nvPr/>
            </p:nvSpPr>
            <p:spPr>
              <a:xfrm>
                <a:off x="1392480" y="4128480"/>
                <a:ext cx="967320" cy="262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132"/>
              <p:cNvSpPr/>
              <p:nvPr/>
            </p:nvSpPr>
            <p:spPr>
              <a:xfrm>
                <a:off x="1524600" y="4133520"/>
                <a:ext cx="6991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HIRD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133"/>
            <p:cNvGrpSpPr/>
            <p:nvPr/>
          </p:nvGrpSpPr>
          <p:grpSpPr>
            <a:xfrm>
              <a:off x="1392480" y="3819240"/>
              <a:ext cx="967320" cy="271080"/>
              <a:chOff x="1392480" y="3819240"/>
              <a:chExt cx="967320" cy="271080"/>
            </a:xfrm>
          </p:grpSpPr>
          <p:sp>
            <p:nvSpPr>
              <p:cNvPr id="205" name="Rectangle 2134"/>
              <p:cNvSpPr/>
              <p:nvPr/>
            </p:nvSpPr>
            <p:spPr>
              <a:xfrm>
                <a:off x="1392480" y="3831120"/>
                <a:ext cx="96732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135"/>
              <p:cNvSpPr/>
              <p:nvPr/>
            </p:nvSpPr>
            <p:spPr>
              <a:xfrm>
                <a:off x="1644120" y="3819240"/>
                <a:ext cx="474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136"/>
            <p:cNvGrpSpPr/>
            <p:nvPr/>
          </p:nvGrpSpPr>
          <p:grpSpPr>
            <a:xfrm>
              <a:off x="1392480" y="3530520"/>
              <a:ext cx="967320" cy="269280"/>
              <a:chOff x="1392480" y="3530520"/>
              <a:chExt cx="967320" cy="269280"/>
            </a:xfrm>
          </p:grpSpPr>
          <p:sp>
            <p:nvSpPr>
              <p:cNvPr id="208" name="Rectangle 2137"/>
              <p:cNvSpPr/>
              <p:nvPr/>
            </p:nvSpPr>
            <p:spPr>
              <a:xfrm>
                <a:off x="1392480" y="3537360"/>
                <a:ext cx="967320" cy="262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398680"/>
                    <a:tab algn="l" pos="4797360"/>
                    <a:tab algn="l" pos="7196040"/>
                    <a:tab algn="l" pos="9594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2138"/>
              <p:cNvSpPr/>
              <p:nvPr/>
            </p:nvSpPr>
            <p:spPr>
              <a:xfrm>
                <a:off x="1641240" y="3530520"/>
                <a:ext cx="4460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OM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2139"/>
            <p:cNvGrpSpPr/>
            <p:nvPr/>
          </p:nvGrpSpPr>
          <p:grpSpPr>
            <a:xfrm>
              <a:off x="1392480" y="4709880"/>
              <a:ext cx="972000" cy="257400"/>
              <a:chOff x="1392480" y="4709880"/>
              <a:chExt cx="972000" cy="257400"/>
            </a:xfrm>
          </p:grpSpPr>
          <p:sp>
            <p:nvSpPr>
              <p:cNvPr id="211" name="Rectangle 2140"/>
              <p:cNvSpPr/>
              <p:nvPr/>
            </p:nvSpPr>
            <p:spPr>
              <a:xfrm>
                <a:off x="1392480" y="4718160"/>
                <a:ext cx="972000" cy="24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2141"/>
              <p:cNvSpPr/>
              <p:nvPr/>
            </p:nvSpPr>
            <p:spPr>
              <a:xfrm>
                <a:off x="1553400" y="4709880"/>
                <a:ext cx="5997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TRM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142"/>
            <p:cNvGrpSpPr/>
            <p:nvPr/>
          </p:nvGrpSpPr>
          <p:grpSpPr>
            <a:xfrm>
              <a:off x="1392480" y="5285520"/>
              <a:ext cx="967320" cy="267840"/>
              <a:chOff x="1392480" y="5285520"/>
              <a:chExt cx="967320" cy="267840"/>
            </a:xfrm>
          </p:grpSpPr>
          <p:sp>
            <p:nvSpPr>
              <p:cNvPr id="214" name="Rectangle 2143"/>
              <p:cNvSpPr/>
              <p:nvPr/>
            </p:nvSpPr>
            <p:spPr>
              <a:xfrm>
                <a:off x="1392480" y="5292360"/>
                <a:ext cx="96732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44"/>
              <p:cNvSpPr/>
              <p:nvPr/>
            </p:nvSpPr>
            <p:spPr>
              <a:xfrm>
                <a:off x="1490040" y="5285520"/>
                <a:ext cx="7783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SeaWiF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2145"/>
            <p:cNvGrpSpPr/>
            <p:nvPr/>
          </p:nvGrpSpPr>
          <p:grpSpPr>
            <a:xfrm>
              <a:off x="1392480" y="4986720"/>
              <a:ext cx="980280" cy="271080"/>
              <a:chOff x="1392480" y="4986720"/>
              <a:chExt cx="980280" cy="271080"/>
            </a:xfrm>
          </p:grpSpPr>
          <p:sp>
            <p:nvSpPr>
              <p:cNvPr id="217" name="Rectangle 2146"/>
              <p:cNvSpPr/>
              <p:nvPr/>
            </p:nvSpPr>
            <p:spPr>
              <a:xfrm>
                <a:off x="1392480" y="4998600"/>
                <a:ext cx="96876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147"/>
              <p:cNvSpPr/>
              <p:nvPr/>
            </p:nvSpPr>
            <p:spPr>
              <a:xfrm>
                <a:off x="1483560" y="4986720"/>
                <a:ext cx="8892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AMSR-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148"/>
            <p:cNvGrpSpPr/>
            <p:nvPr/>
          </p:nvGrpSpPr>
          <p:grpSpPr>
            <a:xfrm>
              <a:off x="1392480" y="4422600"/>
              <a:ext cx="967320" cy="262440"/>
              <a:chOff x="1392480" y="4422600"/>
              <a:chExt cx="967320" cy="262440"/>
            </a:xfrm>
          </p:grpSpPr>
          <p:sp>
            <p:nvSpPr>
              <p:cNvPr id="220" name="Rectangle 2149"/>
              <p:cNvSpPr/>
              <p:nvPr/>
            </p:nvSpPr>
            <p:spPr>
              <a:xfrm>
                <a:off x="1392480" y="4424040"/>
                <a:ext cx="96732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150"/>
              <p:cNvSpPr/>
              <p:nvPr/>
            </p:nvSpPr>
            <p:spPr>
              <a:xfrm>
                <a:off x="1523520" y="4422600"/>
                <a:ext cx="7002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HALO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151"/>
            <p:cNvGrpSpPr/>
            <p:nvPr/>
          </p:nvGrpSpPr>
          <p:grpSpPr>
            <a:xfrm>
              <a:off x="1392480" y="3233160"/>
              <a:ext cx="967320" cy="272880"/>
              <a:chOff x="1392480" y="3233160"/>
              <a:chExt cx="967320" cy="272880"/>
            </a:xfrm>
          </p:grpSpPr>
          <p:sp>
            <p:nvSpPr>
              <p:cNvPr id="223" name="Rectangle 2152"/>
              <p:cNvSpPr/>
              <p:nvPr/>
            </p:nvSpPr>
            <p:spPr>
              <a:xfrm>
                <a:off x="1392480" y="3246840"/>
                <a:ext cx="967320" cy="259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2153"/>
              <p:cNvSpPr/>
              <p:nvPr/>
            </p:nvSpPr>
            <p:spPr>
              <a:xfrm>
                <a:off x="1586160" y="3233160"/>
                <a:ext cx="5846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TO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2154"/>
            <p:cNvSpPr/>
            <p:nvPr/>
          </p:nvSpPr>
          <p:spPr>
            <a:xfrm>
              <a:off x="1392480" y="5579640"/>
              <a:ext cx="967680" cy="261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155"/>
            <p:cNvSpPr/>
            <p:nvPr/>
          </p:nvSpPr>
          <p:spPr>
            <a:xfrm>
              <a:off x="1501200" y="5574600"/>
              <a:ext cx="769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1" lang="en-US" sz="1100" spc="-1" strike="noStrike">
                  <a:solidFill>
                    <a:srgbClr val="0033cc"/>
                  </a:solidFill>
                  <a:latin typeface="Arial"/>
                  <a:ea typeface="Arial"/>
                </a:rPr>
                <a:t>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156"/>
            <p:cNvGrpSpPr/>
            <p:nvPr/>
          </p:nvGrpSpPr>
          <p:grpSpPr>
            <a:xfrm>
              <a:off x="1392480" y="2368080"/>
              <a:ext cx="967320" cy="271440"/>
              <a:chOff x="1392480" y="2368080"/>
              <a:chExt cx="967320" cy="271440"/>
            </a:xfrm>
          </p:grpSpPr>
          <p:sp>
            <p:nvSpPr>
              <p:cNvPr id="228" name="Rectangle 2157"/>
              <p:cNvSpPr/>
              <p:nvPr/>
            </p:nvSpPr>
            <p:spPr>
              <a:xfrm>
                <a:off x="1392480" y="2376360"/>
                <a:ext cx="967320" cy="263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158"/>
              <p:cNvSpPr/>
              <p:nvPr/>
            </p:nvSpPr>
            <p:spPr>
              <a:xfrm>
                <a:off x="1530720" y="2368080"/>
                <a:ext cx="6850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Paraso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159"/>
            <p:cNvGrpSpPr/>
            <p:nvPr/>
          </p:nvGrpSpPr>
          <p:grpSpPr>
            <a:xfrm>
              <a:off x="1392480" y="2945880"/>
              <a:ext cx="967320" cy="271440"/>
              <a:chOff x="1392480" y="2945880"/>
              <a:chExt cx="967320" cy="271440"/>
            </a:xfrm>
          </p:grpSpPr>
          <p:sp>
            <p:nvSpPr>
              <p:cNvPr id="231" name="Rectangle 2160"/>
              <p:cNvSpPr/>
              <p:nvPr/>
            </p:nvSpPr>
            <p:spPr>
              <a:xfrm>
                <a:off x="1392480" y="2955960"/>
                <a:ext cx="967320" cy="261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2161"/>
              <p:cNvSpPr/>
              <p:nvPr/>
            </p:nvSpPr>
            <p:spPr>
              <a:xfrm>
                <a:off x="1521720" y="2945880"/>
                <a:ext cx="7081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CALIO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3" name="Picture 2162" descr=""/>
            <p:cNvPicPr/>
            <p:nvPr/>
          </p:nvPicPr>
          <p:blipFill>
            <a:blip r:embed="rId14">
              <a:lum contrast="20000"/>
            </a:blip>
            <a:stretch/>
          </p:blipFill>
          <p:spPr>
            <a:xfrm>
              <a:off x="2431080" y="3265560"/>
              <a:ext cx="791280" cy="1126080"/>
            </a:xfrm>
            <a:prstGeom prst="rect">
              <a:avLst/>
            </a:prstGeom>
            <a:ln w="6480">
              <a:solidFill>
                <a:srgbClr val="3366ff"/>
              </a:solidFill>
              <a:miter/>
            </a:ln>
          </p:spPr>
        </p:pic>
        <p:pic>
          <p:nvPicPr>
            <p:cNvPr id="234" name="Picture 2163" descr=""/>
            <p:cNvPicPr/>
            <p:nvPr/>
          </p:nvPicPr>
          <p:blipFill>
            <a:blip r:embed="rId15">
              <a:lum contrast="20000"/>
            </a:blip>
            <a:srcRect l="0" t="7288" r="3430" b="1546"/>
            <a:stretch/>
          </p:blipFill>
          <p:spPr>
            <a:xfrm>
              <a:off x="3324600" y="891360"/>
              <a:ext cx="138816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166"/>
            <p:cNvSpPr/>
            <p:nvPr/>
          </p:nvSpPr>
          <p:spPr>
            <a:xfrm>
              <a:off x="1397160" y="1366560"/>
              <a:ext cx="538920" cy="84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167"/>
            <p:cNvSpPr/>
            <p:nvPr/>
          </p:nvSpPr>
          <p:spPr>
            <a:xfrm>
              <a:off x="1392480" y="966600"/>
              <a:ext cx="964440" cy="469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168"/>
            <p:cNvGrpSpPr/>
            <p:nvPr/>
          </p:nvGrpSpPr>
          <p:grpSpPr>
            <a:xfrm>
              <a:off x="1392480" y="1792080"/>
              <a:ext cx="967320" cy="269640"/>
              <a:chOff x="1392480" y="1792080"/>
              <a:chExt cx="967320" cy="269640"/>
            </a:xfrm>
          </p:grpSpPr>
          <p:sp>
            <p:nvSpPr>
              <p:cNvPr id="238" name="Rectangle 2169"/>
              <p:cNvSpPr/>
              <p:nvPr/>
            </p:nvSpPr>
            <p:spPr>
              <a:xfrm>
                <a:off x="1392480" y="1797480"/>
                <a:ext cx="967320" cy="26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170"/>
              <p:cNvSpPr/>
              <p:nvPr/>
            </p:nvSpPr>
            <p:spPr>
              <a:xfrm>
                <a:off x="1560240" y="1792080"/>
                <a:ext cx="6393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ODI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171"/>
            <p:cNvGrpSpPr/>
            <p:nvPr/>
          </p:nvGrpSpPr>
          <p:grpSpPr>
            <a:xfrm>
              <a:off x="1392480" y="1505160"/>
              <a:ext cx="970560" cy="267840"/>
              <a:chOff x="1392480" y="1505160"/>
              <a:chExt cx="970560" cy="267840"/>
            </a:xfrm>
          </p:grpSpPr>
          <p:sp>
            <p:nvSpPr>
              <p:cNvPr id="241" name="Rectangle 2172"/>
              <p:cNvSpPr/>
              <p:nvPr/>
            </p:nvSpPr>
            <p:spPr>
              <a:xfrm>
                <a:off x="1392480" y="1512000"/>
                <a:ext cx="970560" cy="261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2173"/>
              <p:cNvSpPr/>
              <p:nvPr/>
            </p:nvSpPr>
            <p:spPr>
              <a:xfrm>
                <a:off x="1603080" y="1505160"/>
                <a:ext cx="5526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AIR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174"/>
            <p:cNvGrpSpPr/>
            <p:nvPr/>
          </p:nvGrpSpPr>
          <p:grpSpPr>
            <a:xfrm>
              <a:off x="1392480" y="2081160"/>
              <a:ext cx="967320" cy="268200"/>
              <a:chOff x="1392480" y="2081160"/>
              <a:chExt cx="967320" cy="268200"/>
            </a:xfrm>
          </p:grpSpPr>
          <p:sp>
            <p:nvSpPr>
              <p:cNvPr id="244" name="Rectangle 2175"/>
              <p:cNvSpPr/>
              <p:nvPr/>
            </p:nvSpPr>
            <p:spPr>
              <a:xfrm>
                <a:off x="1392480" y="2086200"/>
                <a:ext cx="967320" cy="263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2176"/>
              <p:cNvSpPr/>
              <p:nvPr/>
            </p:nvSpPr>
            <p:spPr>
              <a:xfrm>
                <a:off x="1600200" y="2081160"/>
                <a:ext cx="52992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 algn="ctr"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1" lang="en-US" sz="11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MIS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Rectangle 2177"/>
            <p:cNvSpPr/>
            <p:nvPr/>
          </p:nvSpPr>
          <p:spPr>
            <a:xfrm>
              <a:off x="1392480" y="5868360"/>
              <a:ext cx="967680" cy="261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178"/>
            <p:cNvSpPr/>
            <p:nvPr/>
          </p:nvSpPr>
          <p:spPr>
            <a:xfrm>
              <a:off x="1380960" y="5853240"/>
              <a:ext cx="1020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1" lang="en-US" sz="1100" spc="-1" strike="noStrike">
                  <a:solidFill>
                    <a:srgbClr val="0033cc"/>
                  </a:solidFill>
                  <a:latin typeface="Arial"/>
                  <a:ea typeface="Arial"/>
                </a:rPr>
                <a:t>and more…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316AE18-BEAA-4410-B794-537CC6AEB3F1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6520" y="145800"/>
            <a:ext cx="67276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073160"/>
            <a:ext cx="77518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217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rebuchet MS"/>
              </a:rPr>
              <a:t>Basic (one-parameter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rea plo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averaged or accumulated over any data period for any rectangular area (various map proje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ime plo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time series averaged over any rectangular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Hovmöller plo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longitude-time or latitude-time cross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SCII outpu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for all plot types (can be used with GIS a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Image animation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– for area 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Vertical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profile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Vertical cross-sections, zonal 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rebuchet MS"/>
              </a:rPr>
              <a:t>Beyond bas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rea plot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 geographical intercomparison between two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ime plot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 an X-Y time series plot of several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Scatter plot of parameters in selected area and time period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Scatter plot of area averaged parameter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regional (i.e., spatially averaged) relationship between two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emporal correlation map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relationship between two parameters at each grid point in the selected spati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Temporal correlation of area averaged parameter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 a single value of the correlation coefficient of a pair of selected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Difference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nomaly plo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176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cquiring parameter and spatial subsets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in a batch mode through Giovan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 rot="16200000">
            <a:off x="5594040" y="33469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7942FC0A-CDC6-4F0E-AA7A-07C5C4923720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38480" y="366840"/>
            <a:ext cx="4764960" cy="581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78160"/>
                <a:tab algn="l" pos="4756320"/>
                <a:tab algn="l" pos="7134120"/>
                <a:tab algn="l" pos="9512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wer of 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490680" y="1270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brow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79520" y="21337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o lear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formats and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76280" y="34290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load large amou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4840" y="4735440"/>
            <a:ext cx="80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ized data and analy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obtained with only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 mouse cl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488320" y="591012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ution: 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Giovanni is an exploration t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 rot="16200000">
            <a:off x="5871960" y="34261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rebuchet MS"/>
              </a:rPr>
              <a:t>http://giovanni.gsfc.nasa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D2E2ACA9-3CFB-42D0-B8FA-A7F689007BC6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0" t="19589" r="0" b="8452"/>
          <a:stretch/>
        </p:blipFill>
        <p:spPr>
          <a:xfrm>
            <a:off x="4573440" y="53820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rcRect l="0" t="19589" r="0" b="8452"/>
          <a:stretch/>
        </p:blipFill>
        <p:spPr>
          <a:xfrm>
            <a:off x="0" y="53820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rcRect l="0" t="19589" r="0" b="8452"/>
          <a:stretch/>
        </p:blipFill>
        <p:spPr>
          <a:xfrm>
            <a:off x="0" y="3354480"/>
            <a:ext cx="4570560" cy="273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4"/>
          <a:srcRect l="0" t="19589" r="0" b="8452"/>
          <a:stretch/>
        </p:blipFill>
        <p:spPr>
          <a:xfrm>
            <a:off x="4572000" y="3354480"/>
            <a:ext cx="4570560" cy="27414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T for Jun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14300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143000" y="55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579132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sat ME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563868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ol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EC46FFA0-17A3-48B5-B0F9-DC598E7F933B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3360" y="320040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584600" y="320976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4584600" y="936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4"/>
          <a:stretch/>
        </p:blipFill>
        <p:spPr>
          <a:xfrm>
            <a:off x="63360" y="7920"/>
            <a:ext cx="4570560" cy="3573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OT Differences for Jun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52280" y="2666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ra MODIS – Aqua MO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724280" y="2666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a MODIS -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52280" y="5881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ra MODIS – ME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724280" y="5881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IS – P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1"/>
          <p:cNvSpPr/>
          <p:nvPr/>
        </p:nvSpPr>
        <p:spPr>
          <a:xfrm>
            <a:off x="7493040" y="63658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TP, NC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fld id="{032BB646-D137-472F-95DE-16156BB0A52D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12"/>
          <p:cNvSpPr/>
          <p:nvPr/>
        </p:nvSpPr>
        <p:spPr>
          <a:xfrm>
            <a:off x="2184480" y="6365880"/>
            <a:ext cx="5308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regory Leptoukh &amp; Frank Lindsay, AQ Data Summ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atter 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rcRect l="0" t="2185" r="10874" b="-401"/>
          <a:stretch/>
        </p:blipFill>
        <p:spPr>
          <a:xfrm>
            <a:off x="825480" y="762120"/>
            <a:ext cx="3470400" cy="3187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rcRect l="0" t="2185" r="10912" b="0"/>
          <a:stretch/>
        </p:blipFill>
        <p:spPr>
          <a:xfrm>
            <a:off x="5094360" y="762120"/>
            <a:ext cx="3468600" cy="3173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rcRect l="1632" t="1958" r="8335" b="3999"/>
          <a:stretch/>
        </p:blipFill>
        <p:spPr>
          <a:xfrm>
            <a:off x="2666880" y="3378240"/>
            <a:ext cx="3505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08:10Z</dcterms:created>
  <dc:creator>leptoukh</dc:creator>
  <dc:description/>
  <dc:language>en-US</dc:language>
  <cp:lastModifiedBy>Leptoukh</cp:lastModifiedBy>
  <dcterms:modified xsi:type="dcterms:W3CDTF">2008-02-12T13:17:57Z</dcterms:modified>
  <cp:revision>15</cp:revision>
  <dc:subject/>
  <dc:title>Slide 1</dc:title>
</cp:coreProperties>
</file>